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4.pct" ContentType="image/x-pict"/>
  <Override PartName="/ppt/media/image3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20.png" ContentType="image/png"/>
  <Override PartName="/ppt/media/image19.png" ContentType="image/png"/>
  <Override PartName="/ppt/media/image16.pct" ContentType="image/x-pict"/>
  <Override PartName="/ppt/media/image17.pct" ContentType="image/x-pict"/>
  <Override PartName="/ppt/media/image15.pct" ContentType="image/x-pict"/>
  <Override PartName="/ppt/media/image14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25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BA8-9DFB-405B-BEA3-38364280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E8BC-E82E-4E40-95A6-98839D1B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8DE-3B98-4574-978E-8555E09E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4670-B9CD-45D2-9FD0-7126C697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5174-CEE6-44B0-A538-F52B0A54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30FA-DD68-4CE6-8DEA-5295F695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A17A-C7DD-417F-806E-5F2739D8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C185-5CDF-4F02-B134-B914A938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07E1-5D57-43B0-8E9B-A937BB7E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516D-CE3B-471D-BAE0-C017D67E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38E3-B90A-402A-9472-62A84321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5AE9-054B-4C55-B37D-2402221B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F56E-6873-4F60-97EF-987B74AF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7283-07D4-4872-A0D0-D2EA6931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8AE6-FAEB-4BFD-AE36-83FA8ABC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8ADA-AA92-4E29-9994-5D291399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3DA3-43CF-4A13-88E9-5A88E101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297-3308-4C50-AABC-C8470428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8F2C-6F59-4FF4-A1D7-BF026664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7BE0-A3FD-4CDE-B275-F9C71749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DDCD-CCDA-427F-86F8-7ADB3DAF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716-D100-4107-B3B2-4C343194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A20-5070-455C-AAAD-028F6022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4BD-FE61-4067-BE2E-F97FB68C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280" y="6400800"/>
            <a:ext cx="14734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400800"/>
            <a:ext cx="5562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3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400800"/>
            <a:ext cx="1015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0B5F-9071-44CA-9D8E-4E44E352AF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ADDD-0DD1-40CE-9C72-5654B75B94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9092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5.pct"/><Relationship Id="rId3" Type="http://schemas.openxmlformats.org/officeDocument/2006/relationships/image" Target="../media/image5.pct"/><Relationship Id="rId4" Type="http://schemas.openxmlformats.org/officeDocument/2006/relationships/image" Target="../media/image5.pct"/><Relationship Id="rId5" Type="http://schemas.openxmlformats.org/officeDocument/2006/relationships/image" Target="../media/image5.pct"/><Relationship Id="rId6" Type="http://schemas.openxmlformats.org/officeDocument/2006/relationships/image" Target="../media/image5.pct"/><Relationship Id="rId7" Type="http://schemas.openxmlformats.org/officeDocument/2006/relationships/image" Target="../media/image5.pct"/><Relationship Id="rId8" Type="http://schemas.openxmlformats.org/officeDocument/2006/relationships/image" Target="../media/image5.pct"/><Relationship Id="rId9" Type="http://schemas.openxmlformats.org/officeDocument/2006/relationships/image" Target="../media/image5.pct"/><Relationship Id="rId10" Type="http://schemas.openxmlformats.org/officeDocument/2006/relationships/image" Target="../media/image6.pct"/><Relationship Id="rId11" Type="http://schemas.openxmlformats.org/officeDocument/2006/relationships/image" Target="../media/image7.pct"/><Relationship Id="rId12" Type="http://schemas.openxmlformats.org/officeDocument/2006/relationships/image" Target="../media/image8.pct"/><Relationship Id="rId13" Type="http://schemas.openxmlformats.org/officeDocument/2006/relationships/image" Target="../media/image9.pct"/><Relationship Id="rId14" Type="http://schemas.openxmlformats.org/officeDocument/2006/relationships/image" Target="../media/image10.pct"/><Relationship Id="rId15" Type="http://schemas.openxmlformats.org/officeDocument/2006/relationships/image" Target="../media/image10.pct"/><Relationship Id="rId16" Type="http://schemas.openxmlformats.org/officeDocument/2006/relationships/image" Target="../media/image11.pct"/><Relationship Id="rId17" Type="http://schemas.openxmlformats.org/officeDocument/2006/relationships/image" Target="../media/image12.pct"/><Relationship Id="rId18" Type="http://schemas.openxmlformats.org/officeDocument/2006/relationships/image" Target="../media/image13.pct"/><Relationship Id="rId19" Type="http://schemas.openxmlformats.org/officeDocument/2006/relationships/image" Target="../media/image5.pct"/><Relationship Id="rId2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3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Networking and Internetworking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8280" y="28954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3, © Addison-Wesley 200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1784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9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Pseudo-code for RIP routing algorith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1371600"/>
            <a:ext cx="8153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end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ach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econds or whe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l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nges, send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n each non-faulty outgoing lin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ceiv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henever a routing tabl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received on link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all row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r.lin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r.co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r.co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r.lin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r.destin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not 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add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l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/ add new destination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se for all row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r.destin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Rl.destinatio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(Rr.cost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Rl.co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l.lin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l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R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r.cost &lt; Rl.cost : remote node has better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l.link = 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remote node is more authori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Simplified view of the QMW Computer Science network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523880" y="1371600"/>
            <a:ext cx="6135840" cy="4959360"/>
            <a:chOff x="1523880" y="1371600"/>
            <a:chExt cx="6135840" cy="4959360"/>
          </a:xfrm>
        </p:grpSpPr>
        <p:sp>
          <p:nvSpPr>
            <p:cNvPr id="431" name=""/>
            <p:cNvSpPr/>
            <p:nvPr/>
          </p:nvSpPr>
          <p:spPr>
            <a:xfrm>
              <a:off x="2114640" y="5703840"/>
              <a:ext cx="2523960" cy="142920"/>
            </a:xfrm>
            <a:custGeom>
              <a:avLst/>
              <a:gdLst/>
              <a:ahLst/>
              <a:rect l="l" t="t" r="r" b="b"/>
              <a:pathLst>
                <a:path w="1590" h="90">
                  <a:moveTo>
                    <a:pt x="0" y="90"/>
                  </a:moveTo>
                  <a:lnTo>
                    <a:pt x="1590" y="90"/>
                  </a:lnTo>
                  <a:lnTo>
                    <a:pt x="159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31920" y="1639800"/>
              <a:ext cx="2506680" cy="142920"/>
            </a:xfrm>
            <a:custGeom>
              <a:avLst/>
              <a:gdLst/>
              <a:ahLst/>
              <a:rect l="l" t="t" r="r" b="b"/>
              <a:pathLst>
                <a:path w="1579" h="90">
                  <a:moveTo>
                    <a:pt x="0" y="0"/>
                  </a:moveTo>
                  <a:lnTo>
                    <a:pt x="1579" y="0"/>
                  </a:lnTo>
                  <a:lnTo>
                    <a:pt x="1579" y="9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16640" y="5686560"/>
              <a:ext cx="2143080" cy="64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18240" y="2427120"/>
              <a:ext cx="501480" cy="3079800"/>
            </a:xfrm>
            <a:custGeom>
              <a:avLst/>
              <a:gdLst/>
              <a:ahLst/>
              <a:rect l="l" t="t" r="r" b="b"/>
              <a:pathLst>
                <a:path w="316" h="1940">
                  <a:moveTo>
                    <a:pt x="316" y="0"/>
                  </a:moveTo>
                  <a:lnTo>
                    <a:pt x="0" y="0"/>
                  </a:lnTo>
                  <a:lnTo>
                    <a:pt x="0" y="194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13280" y="2427120"/>
              <a:ext cx="608040" cy="3062520"/>
            </a:xfrm>
            <a:custGeom>
              <a:avLst/>
              <a:gdLst/>
              <a:ahLst/>
              <a:rect l="l" t="t" r="r" b="b"/>
              <a:pathLst>
                <a:path w="383" h="1929">
                  <a:moveTo>
                    <a:pt x="0" y="0"/>
                  </a:moveTo>
                  <a:lnTo>
                    <a:pt x="383" y="0"/>
                  </a:lnTo>
                  <a:lnTo>
                    <a:pt x="383" y="192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81520" y="1855800"/>
              <a:ext cx="789120" cy="482760"/>
            </a:xfrm>
            <a:custGeom>
              <a:avLst/>
              <a:gdLst/>
              <a:ahLst/>
              <a:rect l="l" t="t" r="r" b="b"/>
              <a:pathLst>
                <a:path w="497" h="304">
                  <a:moveTo>
                    <a:pt x="0" y="0"/>
                  </a:moveTo>
                  <a:lnTo>
                    <a:pt x="0" y="191"/>
                  </a:lnTo>
                  <a:lnTo>
                    <a:pt x="497" y="191"/>
                  </a:lnTo>
                  <a:lnTo>
                    <a:pt x="497" y="30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80000" y="1836720"/>
              <a:ext cx="876240" cy="501840"/>
            </a:xfrm>
            <a:custGeom>
              <a:avLst/>
              <a:gdLst/>
              <a:ahLst/>
              <a:rect l="l" t="t" r="r" b="b"/>
              <a:pathLst>
                <a:path w="552" h="316">
                  <a:moveTo>
                    <a:pt x="552" y="0"/>
                  </a:moveTo>
                  <a:lnTo>
                    <a:pt x="552" y="203"/>
                  </a:lnTo>
                  <a:lnTo>
                    <a:pt x="0" y="203"/>
                  </a:lnTo>
                  <a:lnTo>
                    <a:pt x="0" y="31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6930720" y="3054240"/>
              <a:ext cx="1062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56360" y="2946240"/>
              <a:ext cx="106560" cy="12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823080" y="2749680"/>
              <a:ext cx="108000" cy="1217520"/>
            </a:xfrm>
            <a:custGeom>
              <a:avLst/>
              <a:gdLst/>
              <a:ahLst/>
              <a:rect l="l" t="t" r="r" b="b"/>
              <a:pathLst>
                <a:path w="68" h="767">
                  <a:moveTo>
                    <a:pt x="0" y="0"/>
                  </a:moveTo>
                  <a:lnTo>
                    <a:pt x="68" y="0"/>
                  </a:lnTo>
                  <a:lnTo>
                    <a:pt x="68" y="76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05280" y="2535120"/>
              <a:ext cx="142920" cy="2238480"/>
            </a:xfrm>
            <a:custGeom>
              <a:avLst/>
              <a:gdLst/>
              <a:ahLst/>
              <a:rect l="l" t="t" r="r" b="b"/>
              <a:pathLst>
                <a:path w="90" h="1410">
                  <a:moveTo>
                    <a:pt x="90" y="0"/>
                  </a:moveTo>
                  <a:lnTo>
                    <a:pt x="90" y="1353"/>
                  </a:lnTo>
                  <a:lnTo>
                    <a:pt x="0" y="1353"/>
                  </a:lnTo>
                  <a:lnTo>
                    <a:pt x="0" y="141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55960" y="2535120"/>
              <a:ext cx="1003320" cy="2184480"/>
            </a:xfrm>
            <a:custGeom>
              <a:avLst/>
              <a:gdLst/>
              <a:ahLst/>
              <a:rect l="l" t="t" r="r" b="b"/>
              <a:pathLst>
                <a:path w="632" h="1376">
                  <a:moveTo>
                    <a:pt x="632" y="0"/>
                  </a:moveTo>
                  <a:lnTo>
                    <a:pt x="632" y="1263"/>
                  </a:lnTo>
                  <a:lnTo>
                    <a:pt x="0" y="1263"/>
                  </a:lnTo>
                  <a:lnTo>
                    <a:pt x="0" y="137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70120" y="2535120"/>
              <a:ext cx="1181160" cy="1808280"/>
            </a:xfrm>
            <a:custGeom>
              <a:avLst/>
              <a:gdLst/>
              <a:ahLst/>
              <a:rect l="l" t="t" r="r" b="b"/>
              <a:pathLst>
                <a:path w="744" h="1139">
                  <a:moveTo>
                    <a:pt x="744" y="0"/>
                  </a:moveTo>
                  <a:lnTo>
                    <a:pt x="744" y="1139"/>
                  </a:lnTo>
                  <a:lnTo>
                    <a:pt x="0" y="113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05040" y="2535120"/>
              <a:ext cx="1057320" cy="1217880"/>
            </a:xfrm>
            <a:custGeom>
              <a:avLst/>
              <a:gdLst/>
              <a:ahLst/>
              <a:rect l="l" t="t" r="r" b="b"/>
              <a:pathLst>
                <a:path w="666" h="767">
                  <a:moveTo>
                    <a:pt x="666" y="0"/>
                  </a:moveTo>
                  <a:lnTo>
                    <a:pt x="666" y="767"/>
                  </a:lnTo>
                  <a:lnTo>
                    <a:pt x="0" y="76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87760" y="2463840"/>
              <a:ext cx="912600" cy="88920"/>
            </a:xfrm>
            <a:custGeom>
              <a:avLst/>
              <a:gdLst/>
              <a:ahLst/>
              <a:rect l="l" t="t" r="r" b="b"/>
              <a:pathLst>
                <a:path w="575" h="56">
                  <a:moveTo>
                    <a:pt x="0" y="56"/>
                  </a:moveTo>
                  <a:lnTo>
                    <a:pt x="361" y="56"/>
                  </a:lnTo>
                  <a:lnTo>
                    <a:pt x="361" y="0"/>
                  </a:lnTo>
                  <a:lnTo>
                    <a:pt x="57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87760" y="2535120"/>
              <a:ext cx="984240" cy="609840"/>
            </a:xfrm>
            <a:custGeom>
              <a:avLst/>
              <a:gdLst/>
              <a:ahLst/>
              <a:rect l="l" t="t" r="r" b="b"/>
              <a:pathLst>
                <a:path w="620" h="384">
                  <a:moveTo>
                    <a:pt x="620" y="0"/>
                  </a:moveTo>
                  <a:lnTo>
                    <a:pt x="620" y="384"/>
                  </a:lnTo>
                  <a:lnTo>
                    <a:pt x="0" y="38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1988640" y="3162240"/>
              <a:ext cx="590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202480" y="351000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201040" y="225756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omp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00680" y="2901960"/>
              <a:ext cx="40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dial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53160" y="1658880"/>
              <a:ext cx="48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hamm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88440" y="3179880"/>
              <a:ext cx="35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henr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22560" y="3789360"/>
              <a:ext cx="48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hotpoi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70800" y="328788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88.2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30840" y="389556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88.16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165760" y="2571840"/>
              <a:ext cx="34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bru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57840" y="267804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88.24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00600" y="578340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outer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74760" y="563256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sick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46960" y="149688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95.24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19680" y="1496880"/>
              <a:ext cx="102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95.240/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46960" y="586584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95.24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56400" y="4379760"/>
              <a:ext cx="38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cop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48480" y="448632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88.2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68920" y="5873760"/>
              <a:ext cx="47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irewa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84600" y="1693800"/>
              <a:ext cx="270000" cy="3589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84600" y="1693800"/>
              <a:ext cx="287280" cy="37620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00360" y="2338560"/>
              <a:ext cx="519120" cy="1965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00360" y="2338560"/>
              <a:ext cx="536760" cy="214200"/>
            </a:xfrm>
            <a:prstGeom prst="roundRect">
              <a:avLst>
                <a:gd name="adj" fmla="val 47778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01760" y="410040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32360" y="5703840"/>
              <a:ext cx="102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95.248/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202480" y="42260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24120" y="3841920"/>
              <a:ext cx="142920" cy="3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724120" y="3824280"/>
              <a:ext cx="142920" cy="3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24120" y="3807000"/>
              <a:ext cx="142920" cy="3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24120" y="3789360"/>
              <a:ext cx="142920" cy="3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2704680" y="382428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79760" y="3645000"/>
              <a:ext cx="125280" cy="2505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79760" y="3645000"/>
              <a:ext cx="144360" cy="26820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43960" y="5283360"/>
              <a:ext cx="133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desktop computer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02880" y="5303880"/>
              <a:ext cx="70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88.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198880" y="1622520"/>
              <a:ext cx="44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 Helvetica Condensed"/>
                </a:rPr>
                <a:t>sub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481480" y="5829480"/>
              <a:ext cx="44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 Helvetica Condensed"/>
                </a:rPr>
                <a:t>sub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62280" y="2363760"/>
              <a:ext cx="43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swi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79760" y="3036960"/>
              <a:ext cx="125280" cy="2509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579760" y="3036960"/>
              <a:ext cx="144360" cy="26820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79760" y="2409840"/>
              <a:ext cx="125280" cy="268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579760" y="2409840"/>
              <a:ext cx="144360" cy="28728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91520" y="2033640"/>
              <a:ext cx="57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8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02480" y="24004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202480" y="30272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02480" y="36352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579760" y="4218120"/>
              <a:ext cx="125280" cy="2505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579760" y="4218120"/>
              <a:ext cx="144360" cy="26820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40840" y="201600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88.25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598840" y="4773600"/>
              <a:ext cx="30312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43240" y="5059440"/>
              <a:ext cx="5256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lnTo>
                    <a:pt x="33" y="0"/>
                  </a:lnTo>
                  <a:lnTo>
                    <a:pt x="33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152880" y="4970520"/>
              <a:ext cx="1080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135240" y="4952880"/>
              <a:ext cx="142920" cy="106560"/>
            </a:xfrm>
            <a:prstGeom prst="roundRect">
              <a:avLst>
                <a:gd name="adj" fmla="val 37315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52880" y="4987800"/>
              <a:ext cx="9036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52880" y="4987800"/>
              <a:ext cx="108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78160" y="511344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3" name="" descr=""/>
            <p:cNvPicPr/>
            <p:nvPr/>
          </p:nvPicPr>
          <p:blipFill>
            <a:blip r:embed="rId1"/>
            <a:stretch/>
          </p:blipFill>
          <p:spPr>
            <a:xfrm>
              <a:off x="3170160" y="4987800"/>
              <a:ext cx="73080" cy="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3278160" y="5113440"/>
              <a:ext cx="1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95800" y="51134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152880" y="5041800"/>
              <a:ext cx="9036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35240" y="5059440"/>
              <a:ext cx="142920" cy="19080"/>
            </a:xfrm>
            <a:custGeom>
              <a:avLst/>
              <a:gdLst/>
              <a:ahLst/>
              <a:rect l="l" t="t" r="r" b="b"/>
              <a:pathLst>
                <a:path w="90" h="12">
                  <a:moveTo>
                    <a:pt x="11" y="0"/>
                  </a:moveTo>
                  <a:lnTo>
                    <a:pt x="0" y="12"/>
                  </a:lnTo>
                  <a:lnTo>
                    <a:pt x="90" y="12"/>
                  </a:lnTo>
                  <a:lnTo>
                    <a:pt x="7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152880" y="507852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152880" y="5059440"/>
              <a:ext cx="90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52880" y="5078520"/>
              <a:ext cx="7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89240" y="5078520"/>
              <a:ext cx="71640" cy="144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0" y="0"/>
                  </a:moveTo>
                  <a:lnTo>
                    <a:pt x="22" y="0"/>
                  </a:lnTo>
                  <a:lnTo>
                    <a:pt x="4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243240" y="5078520"/>
              <a:ext cx="17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06880" y="4987800"/>
              <a:ext cx="1728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206880" y="4987800"/>
              <a:ext cx="36360" cy="36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795760" y="5113440"/>
              <a:ext cx="34920" cy="54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0" y="0"/>
                  </a:moveTo>
                  <a:lnTo>
                    <a:pt x="22" y="0"/>
                  </a:lnTo>
                  <a:lnTo>
                    <a:pt x="22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687760" y="5024520"/>
              <a:ext cx="1080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670120" y="5005440"/>
              <a:ext cx="142920" cy="10800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05040" y="5041800"/>
              <a:ext cx="9072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05040" y="5041800"/>
              <a:ext cx="108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30680" y="5167440"/>
              <a:ext cx="1872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1" name="" descr=""/>
            <p:cNvPicPr/>
            <p:nvPr/>
          </p:nvPicPr>
          <p:blipFill>
            <a:blip r:embed="rId2"/>
            <a:stretch/>
          </p:blipFill>
          <p:spPr>
            <a:xfrm>
              <a:off x="2705040" y="5041800"/>
              <a:ext cx="71640" cy="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2830680" y="5167440"/>
              <a:ext cx="360" cy="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87760" y="5095800"/>
              <a:ext cx="10800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670120" y="5113440"/>
              <a:ext cx="142920" cy="17280"/>
            </a:xfrm>
            <a:custGeom>
              <a:avLst/>
              <a:gdLst/>
              <a:ahLst/>
              <a:rect l="l" t="t" r="r" b="b"/>
              <a:pathLst>
                <a:path w="90" h="11">
                  <a:moveTo>
                    <a:pt x="11" y="0"/>
                  </a:moveTo>
                  <a:lnTo>
                    <a:pt x="0" y="11"/>
                  </a:lnTo>
                  <a:lnTo>
                    <a:pt x="90" y="11"/>
                  </a:lnTo>
                  <a:lnTo>
                    <a:pt x="7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87760" y="5130720"/>
              <a:ext cx="17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05040" y="5113440"/>
              <a:ext cx="90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687760" y="5130720"/>
              <a:ext cx="71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24120" y="5130720"/>
              <a:ext cx="71640" cy="180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0" y="0"/>
                  </a:moveTo>
                  <a:lnTo>
                    <a:pt x="33" y="0"/>
                  </a:lnTo>
                  <a:lnTo>
                    <a:pt x="4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76680" y="5130720"/>
              <a:ext cx="190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41760" y="5041800"/>
              <a:ext cx="3492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741760" y="5041800"/>
              <a:ext cx="54000" cy="36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14880" y="4844880"/>
              <a:ext cx="34920" cy="54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0" y="0"/>
                  </a:moveTo>
                  <a:lnTo>
                    <a:pt x="22" y="0"/>
                  </a:lnTo>
                  <a:lnTo>
                    <a:pt x="22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06880" y="4756320"/>
              <a:ext cx="12528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189240" y="4737240"/>
              <a:ext cx="160560" cy="10764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24160" y="4773600"/>
              <a:ext cx="907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24160" y="4773600"/>
              <a:ext cx="108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349800" y="4898880"/>
              <a:ext cx="18720" cy="17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8" name="" descr=""/>
            <p:cNvPicPr/>
            <p:nvPr/>
          </p:nvPicPr>
          <p:blipFill>
            <a:blip r:embed="rId3"/>
            <a:stretch/>
          </p:blipFill>
          <p:spPr>
            <a:xfrm>
              <a:off x="3243240" y="4791240"/>
              <a:ext cx="716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3349800" y="489888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49800" y="489888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68520" y="4898880"/>
              <a:ext cx="1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224160" y="4827600"/>
              <a:ext cx="90720" cy="1728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06880" y="484488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11" y="0"/>
                  </a:moveTo>
                  <a:lnTo>
                    <a:pt x="0" y="11"/>
                  </a:lnTo>
                  <a:lnTo>
                    <a:pt x="79" y="11"/>
                  </a:lnTo>
                  <a:lnTo>
                    <a:pt x="7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24160" y="486252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224160" y="4862520"/>
              <a:ext cx="90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24160" y="4862520"/>
              <a:ext cx="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43240" y="4862520"/>
              <a:ext cx="88920" cy="1440"/>
            </a:xfrm>
            <a:custGeom>
              <a:avLst/>
              <a:gdLst/>
              <a:ahLst/>
              <a:rect l="l" t="t" r="r" b="b"/>
              <a:pathLst>
                <a:path w="56" h="0">
                  <a:moveTo>
                    <a:pt x="0" y="0"/>
                  </a:moveTo>
                  <a:lnTo>
                    <a:pt x="33" y="0"/>
                  </a:lnTo>
                  <a:lnTo>
                    <a:pt x="5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314880" y="486252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260880" y="4773600"/>
              <a:ext cx="349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60880" y="4773600"/>
              <a:ext cx="54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2758680" y="4808520"/>
              <a:ext cx="14292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955960" y="4844880"/>
              <a:ext cx="1440" cy="25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973240" y="4791240"/>
              <a:ext cx="16200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009960" y="4791240"/>
              <a:ext cx="233280" cy="3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01960" y="4719600"/>
              <a:ext cx="10800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27240" y="518472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0"/>
                  </a:moveTo>
                  <a:lnTo>
                    <a:pt x="34" y="11"/>
                  </a:lnTo>
                  <a:lnTo>
                    <a:pt x="34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38320" y="5095800"/>
              <a:ext cx="108000" cy="88920"/>
            </a:xfrm>
            <a:prstGeom prst="roundRect">
              <a:avLst>
                <a:gd name="adj" fmla="val 446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921040" y="5078520"/>
              <a:ext cx="142920" cy="123840"/>
            </a:xfrm>
            <a:prstGeom prst="roundRect">
              <a:avLst>
                <a:gd name="adj" fmla="val 32051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38320" y="5130720"/>
              <a:ext cx="8892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38320" y="5130720"/>
              <a:ext cx="108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63960" y="523872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2" name="" descr=""/>
            <p:cNvPicPr/>
            <p:nvPr/>
          </p:nvPicPr>
          <p:blipFill>
            <a:blip r:embed="rId4"/>
            <a:stretch/>
          </p:blipFill>
          <p:spPr>
            <a:xfrm>
              <a:off x="2955960" y="5130720"/>
              <a:ext cx="7128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3063960" y="523872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81240" y="5238720"/>
              <a:ext cx="1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081240" y="5238720"/>
              <a:ext cx="1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938320" y="5184720"/>
              <a:ext cx="8892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921040" y="5202360"/>
              <a:ext cx="142920" cy="19080"/>
            </a:xfrm>
            <a:custGeom>
              <a:avLst/>
              <a:gdLst/>
              <a:ahLst/>
              <a:rect l="l" t="t" r="r" b="b"/>
              <a:pathLst>
                <a:path w="90" h="12">
                  <a:moveTo>
                    <a:pt x="11" y="0"/>
                  </a:moveTo>
                  <a:lnTo>
                    <a:pt x="0" y="12"/>
                  </a:lnTo>
                  <a:lnTo>
                    <a:pt x="90" y="12"/>
                  </a:lnTo>
                  <a:lnTo>
                    <a:pt x="7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38320" y="5202360"/>
              <a:ext cx="17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938320" y="5202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938320" y="5202360"/>
              <a:ext cx="71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73240" y="5202360"/>
              <a:ext cx="73080" cy="144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23" y="0"/>
                  </a:lnTo>
                  <a:lnTo>
                    <a:pt x="4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027240" y="520236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992320" y="5113440"/>
              <a:ext cx="1764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92320" y="5113440"/>
              <a:ext cx="3492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3528720" y="4827600"/>
              <a:ext cx="322200" cy="8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91120" y="511344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0"/>
                  </a:moveTo>
                  <a:lnTo>
                    <a:pt x="23" y="0"/>
                  </a:lnTo>
                  <a:lnTo>
                    <a:pt x="23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84560" y="5024520"/>
              <a:ext cx="10656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065480" y="5005440"/>
              <a:ext cx="144720" cy="10800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02200" y="5041800"/>
              <a:ext cx="8892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02200" y="5041800"/>
              <a:ext cx="108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10200" y="516744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1" y="0"/>
                  </a:moveTo>
                  <a:lnTo>
                    <a:pt x="11" y="0"/>
                  </a:lnTo>
                  <a:lnTo>
                    <a:pt x="22" y="0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5"/>
            <a:stretch/>
          </p:blipFill>
          <p:spPr>
            <a:xfrm>
              <a:off x="4102200" y="5059440"/>
              <a:ext cx="7128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4227480" y="5167440"/>
              <a:ext cx="180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27480" y="5167440"/>
              <a:ext cx="180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27480" y="5167440"/>
              <a:ext cx="180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084560" y="5095800"/>
              <a:ext cx="10656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065480" y="5113440"/>
              <a:ext cx="144720" cy="36360"/>
            </a:xfrm>
            <a:custGeom>
              <a:avLst/>
              <a:gdLst/>
              <a:ahLst/>
              <a:rect l="l" t="t" r="r" b="b"/>
              <a:pathLst>
                <a:path w="91" h="23">
                  <a:moveTo>
                    <a:pt x="12" y="0"/>
                  </a:moveTo>
                  <a:lnTo>
                    <a:pt x="0" y="23"/>
                  </a:lnTo>
                  <a:lnTo>
                    <a:pt x="91" y="23"/>
                  </a:lnTo>
                  <a:lnTo>
                    <a:pt x="79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84560" y="5130720"/>
              <a:ext cx="106560" cy="1800"/>
            </a:xfrm>
            <a:custGeom>
              <a:avLst/>
              <a:gdLst/>
              <a:ahLst/>
              <a:rect l="l" t="t" r="r" b="b"/>
              <a:pathLst>
                <a:path w="67" h="0">
                  <a:moveTo>
                    <a:pt x="0" y="0"/>
                  </a:moveTo>
                  <a:lnTo>
                    <a:pt x="11" y="0"/>
                  </a:lnTo>
                  <a:lnTo>
                    <a:pt x="6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084560" y="5130720"/>
              <a:ext cx="71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119480" y="5130720"/>
              <a:ext cx="71640" cy="180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0" y="0"/>
                  </a:moveTo>
                  <a:lnTo>
                    <a:pt x="34" y="0"/>
                  </a:lnTo>
                  <a:lnTo>
                    <a:pt x="4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73480" y="5130720"/>
              <a:ext cx="17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137120" y="5041800"/>
              <a:ext cx="3636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137120" y="5041800"/>
              <a:ext cx="54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726000" y="516744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0"/>
                  </a:moveTo>
                  <a:lnTo>
                    <a:pt x="23" y="0"/>
                  </a:lnTo>
                  <a:lnTo>
                    <a:pt x="34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618000" y="5078520"/>
              <a:ext cx="12528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00360" y="5059440"/>
              <a:ext cx="162000" cy="10800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37080" y="5095800"/>
              <a:ext cx="889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37080" y="5095800"/>
              <a:ext cx="1062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762360" y="522144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0" name="" descr=""/>
            <p:cNvPicPr/>
            <p:nvPr/>
          </p:nvPicPr>
          <p:blipFill>
            <a:blip r:embed="rId6"/>
            <a:stretch/>
          </p:blipFill>
          <p:spPr>
            <a:xfrm>
              <a:off x="3654360" y="5113440"/>
              <a:ext cx="716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3762360" y="5221440"/>
              <a:ext cx="144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762360" y="5221440"/>
              <a:ext cx="144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780000" y="5221440"/>
              <a:ext cx="144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37080" y="5149800"/>
              <a:ext cx="8892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18000" y="5167440"/>
              <a:ext cx="125280" cy="34920"/>
            </a:xfrm>
            <a:custGeom>
              <a:avLst/>
              <a:gdLst/>
              <a:ahLst/>
              <a:rect l="l" t="t" r="r" b="b"/>
              <a:pathLst>
                <a:path w="79" h="22">
                  <a:moveTo>
                    <a:pt x="12" y="0"/>
                  </a:moveTo>
                  <a:lnTo>
                    <a:pt x="0" y="22"/>
                  </a:lnTo>
                  <a:lnTo>
                    <a:pt x="79" y="22"/>
                  </a:lnTo>
                  <a:lnTo>
                    <a:pt x="79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637080" y="5184720"/>
              <a:ext cx="17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637080" y="51847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37080" y="5184720"/>
              <a:ext cx="54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654360" y="5184720"/>
              <a:ext cx="88920" cy="1800"/>
            </a:xfrm>
            <a:custGeom>
              <a:avLst/>
              <a:gdLst/>
              <a:ahLst/>
              <a:rect l="l" t="t" r="r" b="b"/>
              <a:pathLst>
                <a:path w="56" h="0">
                  <a:moveTo>
                    <a:pt x="0" y="0"/>
                  </a:moveTo>
                  <a:lnTo>
                    <a:pt x="34" y="0"/>
                  </a:lnTo>
                  <a:lnTo>
                    <a:pt x="5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26000" y="5184720"/>
              <a:ext cx="17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72000" y="5095800"/>
              <a:ext cx="3636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72000" y="5095800"/>
              <a:ext cx="54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5120" y="489888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0"/>
                  </a:moveTo>
                  <a:lnTo>
                    <a:pt x="34" y="11"/>
                  </a:lnTo>
                  <a:lnTo>
                    <a:pt x="34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156200" y="4808520"/>
              <a:ext cx="106200" cy="90360"/>
            </a:xfrm>
            <a:prstGeom prst="roundRect">
              <a:avLst>
                <a:gd name="adj" fmla="val 438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137120" y="4791240"/>
              <a:ext cx="144360" cy="125280"/>
            </a:xfrm>
            <a:prstGeom prst="roundRect">
              <a:avLst>
                <a:gd name="adj" fmla="val 3164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73480" y="4844880"/>
              <a:ext cx="7164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173480" y="4844880"/>
              <a:ext cx="8892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281480" y="49528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9" name="" descr=""/>
            <p:cNvPicPr/>
            <p:nvPr/>
          </p:nvPicPr>
          <p:blipFill>
            <a:blip r:embed="rId7"/>
            <a:stretch/>
          </p:blipFill>
          <p:spPr>
            <a:xfrm>
              <a:off x="4173480" y="4844880"/>
              <a:ext cx="716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4281480" y="495288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299120" y="495288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299120" y="495288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56200" y="4898880"/>
              <a:ext cx="10620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37120" y="4916520"/>
              <a:ext cx="144360" cy="17280"/>
            </a:xfrm>
            <a:custGeom>
              <a:avLst/>
              <a:gdLst/>
              <a:ahLst/>
              <a:rect l="l" t="t" r="r" b="b"/>
              <a:pathLst>
                <a:path w="91" h="11">
                  <a:moveTo>
                    <a:pt x="12" y="0"/>
                  </a:moveTo>
                  <a:lnTo>
                    <a:pt x="0" y="11"/>
                  </a:lnTo>
                  <a:lnTo>
                    <a:pt x="91" y="11"/>
                  </a:lnTo>
                  <a:lnTo>
                    <a:pt x="79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156200" y="4916520"/>
              <a:ext cx="88920" cy="1440"/>
            </a:xfrm>
            <a:custGeom>
              <a:avLst/>
              <a:gdLst/>
              <a:ahLst/>
              <a:rect l="l" t="t" r="r" b="b"/>
              <a:pathLst>
                <a:path w="56" h="0">
                  <a:moveTo>
                    <a:pt x="0" y="0"/>
                  </a:moveTo>
                  <a:lnTo>
                    <a:pt x="11" y="0"/>
                  </a:lnTo>
                  <a:lnTo>
                    <a:pt x="56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156200" y="4916520"/>
              <a:ext cx="7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91120" y="4916520"/>
              <a:ext cx="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227480" y="4916520"/>
              <a:ext cx="34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245120" y="491652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210200" y="4827600"/>
              <a:ext cx="1728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210200" y="4827600"/>
              <a:ext cx="34920" cy="52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690720" y="4879800"/>
              <a:ext cx="1602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905280" y="4898880"/>
              <a:ext cx="1440" cy="26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05280" y="4844880"/>
              <a:ext cx="1602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40200" y="4844880"/>
              <a:ext cx="233280" cy="3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33640" y="4773600"/>
              <a:ext cx="12564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976560" y="523872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0"/>
                  </a:moveTo>
                  <a:lnTo>
                    <a:pt x="23" y="11"/>
                  </a:lnTo>
                  <a:lnTo>
                    <a:pt x="23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68560" y="5167440"/>
              <a:ext cx="1080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51280" y="5149800"/>
              <a:ext cx="142920" cy="106560"/>
            </a:xfrm>
            <a:prstGeom prst="roundRect">
              <a:avLst>
                <a:gd name="adj" fmla="val 37315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887640" y="5184720"/>
              <a:ext cx="8892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887640" y="5184720"/>
              <a:ext cx="10656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94200" y="529272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2" y="0"/>
                  </a:moveTo>
                  <a:lnTo>
                    <a:pt x="12" y="0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8"/>
            <a:stretch/>
          </p:blipFill>
          <p:spPr>
            <a:xfrm>
              <a:off x="3887640" y="5184720"/>
              <a:ext cx="71640" cy="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013280" y="529272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013280" y="529272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013280" y="529272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868560" y="5238720"/>
              <a:ext cx="10800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851280" y="5256360"/>
              <a:ext cx="142920" cy="19080"/>
            </a:xfrm>
            <a:custGeom>
              <a:avLst/>
              <a:gdLst/>
              <a:ahLst/>
              <a:rect l="l" t="t" r="r" b="b"/>
              <a:pathLst>
                <a:path w="90" h="12">
                  <a:moveTo>
                    <a:pt x="11" y="0"/>
                  </a:moveTo>
                  <a:lnTo>
                    <a:pt x="0" y="12"/>
                  </a:lnTo>
                  <a:lnTo>
                    <a:pt x="90" y="12"/>
                  </a:lnTo>
                  <a:lnTo>
                    <a:pt x="7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868560" y="527544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887640" y="5256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868560" y="5256360"/>
              <a:ext cx="71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905280" y="5275440"/>
              <a:ext cx="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9280" y="525636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59280" y="527544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922560" y="5167440"/>
              <a:ext cx="367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22560" y="5167440"/>
              <a:ext cx="54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46360" y="4933800"/>
              <a:ext cx="36720" cy="716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0"/>
                  </a:moveTo>
                  <a:lnTo>
                    <a:pt x="23" y="12"/>
                  </a:lnTo>
                  <a:lnTo>
                    <a:pt x="23" y="4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40160" y="4862520"/>
              <a:ext cx="1062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21080" y="4844880"/>
              <a:ext cx="144360" cy="10800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457440" y="4879800"/>
              <a:ext cx="8892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57440" y="4879800"/>
              <a:ext cx="108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83080" y="4987800"/>
              <a:ext cx="17280" cy="3672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0" y="0"/>
                  </a:moveTo>
                  <a:lnTo>
                    <a:pt x="0" y="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3" name="" descr=""/>
            <p:cNvPicPr/>
            <p:nvPr/>
          </p:nvPicPr>
          <p:blipFill>
            <a:blip r:embed="rId9"/>
            <a:stretch/>
          </p:blipFill>
          <p:spPr>
            <a:xfrm>
              <a:off x="3457440" y="4879800"/>
              <a:ext cx="71640" cy="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3583080" y="5005440"/>
              <a:ext cx="360" cy="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440160" y="4933800"/>
              <a:ext cx="106200" cy="1908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421080" y="4952880"/>
              <a:ext cx="144360" cy="17640"/>
            </a:xfrm>
            <a:custGeom>
              <a:avLst/>
              <a:gdLst/>
              <a:ahLst/>
              <a:rect l="l" t="t" r="r" b="b"/>
              <a:pathLst>
                <a:path w="91" h="11">
                  <a:moveTo>
                    <a:pt x="12" y="0"/>
                  </a:moveTo>
                  <a:lnTo>
                    <a:pt x="0" y="11"/>
                  </a:lnTo>
                  <a:lnTo>
                    <a:pt x="91" y="11"/>
                  </a:lnTo>
                  <a:lnTo>
                    <a:pt x="79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40160" y="497052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57440" y="495288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440160" y="4952880"/>
              <a:ext cx="71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475080" y="4970520"/>
              <a:ext cx="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529080" y="4952880"/>
              <a:ext cx="17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529080" y="497052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92360" y="4862520"/>
              <a:ext cx="3672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492360" y="4862520"/>
              <a:ext cx="54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54640" y="2535120"/>
              <a:ext cx="162000" cy="2184480"/>
            </a:xfrm>
            <a:custGeom>
              <a:avLst/>
              <a:gdLst/>
              <a:ahLst/>
              <a:rect l="l" t="t" r="r" b="b"/>
              <a:pathLst>
                <a:path w="102" h="1376">
                  <a:moveTo>
                    <a:pt x="0" y="0"/>
                  </a:moveTo>
                  <a:lnTo>
                    <a:pt x="0" y="1320"/>
                  </a:lnTo>
                  <a:lnTo>
                    <a:pt x="102" y="1320"/>
                  </a:lnTo>
                  <a:lnTo>
                    <a:pt x="102" y="137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462640" y="2535120"/>
              <a:ext cx="984240" cy="2184480"/>
            </a:xfrm>
            <a:custGeom>
              <a:avLst/>
              <a:gdLst/>
              <a:ahLst/>
              <a:rect l="l" t="t" r="r" b="b"/>
              <a:pathLst>
                <a:path w="620" h="1376">
                  <a:moveTo>
                    <a:pt x="0" y="0"/>
                  </a:moveTo>
                  <a:lnTo>
                    <a:pt x="0" y="1263"/>
                  </a:lnTo>
                  <a:lnTo>
                    <a:pt x="620" y="1263"/>
                  </a:lnTo>
                  <a:lnTo>
                    <a:pt x="620" y="137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67560" y="25002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1"/>
                  </a:moveTo>
                  <a:lnTo>
                    <a:pt x="22" y="0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767560" y="2517840"/>
              <a:ext cx="106200" cy="179280"/>
            </a:xfrm>
            <a:custGeom>
              <a:avLst/>
              <a:gdLst/>
              <a:ahLst/>
              <a:rect l="l" t="t" r="r" b="b"/>
              <a:pathLst>
                <a:path w="67" h="113">
                  <a:moveTo>
                    <a:pt x="22" y="0"/>
                  </a:moveTo>
                  <a:lnTo>
                    <a:pt x="0" y="11"/>
                  </a:lnTo>
                  <a:lnTo>
                    <a:pt x="45" y="113"/>
                  </a:lnTo>
                  <a:lnTo>
                    <a:pt x="56" y="113"/>
                  </a:lnTo>
                  <a:lnTo>
                    <a:pt x="56" y="113"/>
                  </a:lnTo>
                  <a:lnTo>
                    <a:pt x="67" y="10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697800" y="2660760"/>
              <a:ext cx="1728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856120" y="2660760"/>
              <a:ext cx="84168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124680" y="505944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0"/>
                  </a:moveTo>
                  <a:lnTo>
                    <a:pt x="0" y="0"/>
                  </a:lnTo>
                  <a:lnTo>
                    <a:pt x="0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141960" y="4970520"/>
              <a:ext cx="1080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24680" y="4952880"/>
              <a:ext cx="142920" cy="106560"/>
            </a:xfrm>
            <a:prstGeom prst="roundRect">
              <a:avLst>
                <a:gd name="adj" fmla="val 37315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161040" y="4987800"/>
              <a:ext cx="8892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61040" y="4987800"/>
              <a:ext cx="10656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107040" y="511344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7" name="" descr=""/>
            <p:cNvPicPr/>
            <p:nvPr/>
          </p:nvPicPr>
          <p:blipFill>
            <a:blip r:embed="rId10"/>
            <a:stretch/>
          </p:blipFill>
          <p:spPr>
            <a:xfrm>
              <a:off x="6161040" y="4987800"/>
              <a:ext cx="71640" cy="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6124680" y="51134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107040" y="5113440"/>
              <a:ext cx="1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61040" y="5041800"/>
              <a:ext cx="8892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141960" y="5059440"/>
              <a:ext cx="125640" cy="19080"/>
            </a:xfrm>
            <a:custGeom>
              <a:avLst/>
              <a:gdLst/>
              <a:ahLst/>
              <a:rect l="l" t="t" r="r" b="b"/>
              <a:pathLst>
                <a:path w="79" h="12">
                  <a:moveTo>
                    <a:pt x="68" y="0"/>
                  </a:moveTo>
                  <a:lnTo>
                    <a:pt x="79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6232680" y="507852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6160680" y="505944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6195960" y="5078520"/>
              <a:ext cx="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41960" y="5078520"/>
              <a:ext cx="73080" cy="144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6141600" y="507852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178680" y="4987800"/>
              <a:ext cx="3636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78680" y="4987800"/>
              <a:ext cx="54000" cy="36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554880" y="5113440"/>
              <a:ext cx="34920" cy="54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2" y="0"/>
                  </a:moveTo>
                  <a:lnTo>
                    <a:pt x="0" y="0"/>
                  </a:lnTo>
                  <a:lnTo>
                    <a:pt x="0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589800" y="5024520"/>
              <a:ext cx="9036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72160" y="5005440"/>
              <a:ext cx="125640" cy="10800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89800" y="5041800"/>
              <a:ext cx="9036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589800" y="5041800"/>
              <a:ext cx="108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37240" y="516744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5" name="" descr=""/>
            <p:cNvPicPr/>
            <p:nvPr/>
          </p:nvPicPr>
          <p:blipFill>
            <a:blip r:embed="rId11"/>
            <a:stretch/>
          </p:blipFill>
          <p:spPr>
            <a:xfrm>
              <a:off x="6589800" y="5041800"/>
              <a:ext cx="73080" cy="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6554880" y="5167440"/>
              <a:ext cx="360" cy="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89800" y="5095800"/>
              <a:ext cx="9036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572160" y="5113440"/>
              <a:ext cx="125640" cy="1728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68" y="0"/>
                  </a:moveTo>
                  <a:lnTo>
                    <a:pt x="79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6662880" y="5130720"/>
              <a:ext cx="17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6589440" y="5113440"/>
              <a:ext cx="90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6626160" y="5130720"/>
              <a:ext cx="54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572160" y="5130720"/>
              <a:ext cx="90720" cy="1800"/>
            </a:xfrm>
            <a:custGeom>
              <a:avLst/>
              <a:gdLst/>
              <a:ahLst/>
              <a:rect l="l" t="t" r="r" b="b"/>
              <a:pathLst>
                <a:path w="57" h="0">
                  <a:moveTo>
                    <a:pt x="57" y="0"/>
                  </a:moveTo>
                  <a:lnTo>
                    <a:pt x="23" y="0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608880" y="5041800"/>
              <a:ext cx="3492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608880" y="5041800"/>
              <a:ext cx="54000" cy="36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53040" y="484488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0"/>
                  </a:moveTo>
                  <a:lnTo>
                    <a:pt x="0" y="0"/>
                  </a:lnTo>
                  <a:lnTo>
                    <a:pt x="0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89760" y="4756320"/>
              <a:ext cx="1062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70680" y="4737240"/>
              <a:ext cx="144360" cy="10764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107040" y="4773600"/>
              <a:ext cx="7164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107040" y="4773600"/>
              <a:ext cx="8892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035760" y="4898880"/>
              <a:ext cx="34920" cy="1764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1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12"/>
            <a:stretch/>
          </p:blipFill>
          <p:spPr>
            <a:xfrm>
              <a:off x="6107040" y="4791240"/>
              <a:ext cx="716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/>
            <p:nvPr/>
          </p:nvSpPr>
          <p:spPr>
            <a:xfrm>
              <a:off x="6053040" y="4898880"/>
              <a:ext cx="1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053040" y="4898880"/>
              <a:ext cx="1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053040" y="4898880"/>
              <a:ext cx="1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089760" y="4827600"/>
              <a:ext cx="88920" cy="1728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070680" y="484488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0"/>
                  </a:moveTo>
                  <a:lnTo>
                    <a:pt x="79" y="11"/>
                  </a:lnTo>
                  <a:lnTo>
                    <a:pt x="0" y="11"/>
                  </a:lnTo>
                  <a:lnTo>
                    <a:pt x="12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6160680" y="4862520"/>
              <a:ext cx="34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6089400" y="486252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6124680" y="4862520"/>
              <a:ext cx="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089760" y="4862520"/>
              <a:ext cx="71280" cy="144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45" y="0"/>
                  </a:move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6089760" y="486252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07040" y="4773600"/>
              <a:ext cx="349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107040" y="4773600"/>
              <a:ext cx="54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127560" y="2697120"/>
              <a:ext cx="42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custa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794920" y="282240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94.24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00640" y="2338560"/>
              <a:ext cx="520560" cy="1965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00640" y="2338560"/>
              <a:ext cx="538200" cy="214200"/>
            </a:xfrm>
            <a:prstGeom prst="roundRect">
              <a:avLst>
                <a:gd name="adj" fmla="val 47778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54880" y="2786040"/>
              <a:ext cx="125280" cy="17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554880" y="2749680"/>
              <a:ext cx="125280" cy="5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554880" y="2749680"/>
              <a:ext cx="125280" cy="36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554880" y="2732040"/>
              <a:ext cx="125280" cy="36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680160" y="2768760"/>
              <a:ext cx="34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715080" y="2571840"/>
              <a:ext cx="125280" cy="268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715080" y="2571840"/>
              <a:ext cx="144360" cy="28584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483240" y="4808520"/>
              <a:ext cx="14292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429240" y="4844880"/>
              <a:ext cx="1800" cy="25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6267240" y="4791240"/>
              <a:ext cx="14436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6160680" y="4791240"/>
              <a:ext cx="214200" cy="3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375240" y="4719600"/>
              <a:ext cx="10800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321600" y="518472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0"/>
                  </a:moveTo>
                  <a:lnTo>
                    <a:pt x="0" y="11"/>
                  </a:lnTo>
                  <a:lnTo>
                    <a:pt x="0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357960" y="5095800"/>
              <a:ext cx="106200" cy="88920"/>
            </a:xfrm>
            <a:prstGeom prst="roundRect">
              <a:avLst>
                <a:gd name="adj" fmla="val 446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340320" y="5078520"/>
              <a:ext cx="142920" cy="123840"/>
            </a:xfrm>
            <a:prstGeom prst="roundRect">
              <a:avLst>
                <a:gd name="adj" fmla="val 32051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357960" y="5130720"/>
              <a:ext cx="8892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357960" y="5130720"/>
              <a:ext cx="1062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303960" y="5238720"/>
              <a:ext cx="36360" cy="176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11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23" y="11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6" name="" descr=""/>
            <p:cNvPicPr/>
            <p:nvPr/>
          </p:nvPicPr>
          <p:blipFill>
            <a:blip r:embed="rId13"/>
            <a:stretch/>
          </p:blipFill>
          <p:spPr>
            <a:xfrm>
              <a:off x="6375240" y="5130720"/>
              <a:ext cx="5400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6321600" y="523872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21600" y="523872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321600" y="523872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357960" y="5184720"/>
              <a:ext cx="8892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340320" y="5202360"/>
              <a:ext cx="123840" cy="19080"/>
            </a:xfrm>
            <a:custGeom>
              <a:avLst/>
              <a:gdLst/>
              <a:ahLst/>
              <a:rect l="l" t="t" r="r" b="b"/>
              <a:pathLst>
                <a:path w="78" h="12">
                  <a:moveTo>
                    <a:pt x="67" y="0"/>
                  </a:moveTo>
                  <a:lnTo>
                    <a:pt x="78" y="12"/>
                  </a:lnTo>
                  <a:lnTo>
                    <a:pt x="0" y="12"/>
                  </a:lnTo>
                  <a:lnTo>
                    <a:pt x="11" y="0"/>
                  </a:lnTo>
                  <a:lnTo>
                    <a:pt x="67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6428880" y="5202360"/>
              <a:ext cx="17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6357600" y="5202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6392880" y="5202360"/>
              <a:ext cx="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357960" y="5202360"/>
              <a:ext cx="71280" cy="144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45" y="0"/>
                  </a:move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6357960" y="520236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375240" y="5113440"/>
              <a:ext cx="3672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375240" y="5113440"/>
              <a:ext cx="54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077440" y="5283360"/>
              <a:ext cx="133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desktop computer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364000" y="2363760"/>
              <a:ext cx="43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swi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87000" y="2033640"/>
              <a:ext cx="57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9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70640" y="4791240"/>
              <a:ext cx="32220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194440" y="505944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0"/>
                  </a:moveTo>
                  <a:lnTo>
                    <a:pt x="0" y="12"/>
                  </a:lnTo>
                  <a:lnTo>
                    <a:pt x="0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229360" y="4970520"/>
              <a:ext cx="107640" cy="88920"/>
            </a:xfrm>
            <a:prstGeom prst="roundRect">
              <a:avLst>
                <a:gd name="adj" fmla="val 446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211720" y="4952880"/>
              <a:ext cx="142920" cy="125640"/>
            </a:xfrm>
            <a:prstGeom prst="roundRect">
              <a:avLst>
                <a:gd name="adj" fmla="val 3164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248440" y="5005440"/>
              <a:ext cx="7128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48440" y="5005440"/>
              <a:ext cx="8856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76800" y="511344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1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9" name="" descr=""/>
            <p:cNvPicPr/>
            <p:nvPr/>
          </p:nvPicPr>
          <p:blipFill>
            <a:blip r:embed="rId14"/>
            <a:stretch/>
          </p:blipFill>
          <p:spPr>
            <a:xfrm>
              <a:off x="5248440" y="5005440"/>
              <a:ext cx="7128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5194440" y="5113440"/>
              <a:ext cx="144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194440" y="5113440"/>
              <a:ext cx="144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194440" y="5113440"/>
              <a:ext cx="144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229360" y="5041800"/>
              <a:ext cx="10764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211720" y="5078520"/>
              <a:ext cx="142920" cy="17280"/>
            </a:xfrm>
            <a:custGeom>
              <a:avLst/>
              <a:gdLst/>
              <a:ahLst/>
              <a:rect l="l" t="t" r="r" b="b"/>
              <a:pathLst>
                <a:path w="90" h="11">
                  <a:moveTo>
                    <a:pt x="79" y="0"/>
                  </a:moveTo>
                  <a:lnTo>
                    <a:pt x="90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48440" y="5078520"/>
              <a:ext cx="88560" cy="1440"/>
            </a:xfrm>
            <a:custGeom>
              <a:avLst/>
              <a:gdLst/>
              <a:ahLst/>
              <a:rect l="l" t="t" r="r" b="b"/>
              <a:pathLst>
                <a:path w="56" h="0">
                  <a:moveTo>
                    <a:pt x="56" y="0"/>
                  </a:moveTo>
                  <a:lnTo>
                    <a:pt x="45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5265720" y="5078520"/>
              <a:ext cx="7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5248080" y="5078520"/>
              <a:ext cx="52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5229000" y="5078520"/>
              <a:ext cx="36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5229000" y="507852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65720" y="4987800"/>
              <a:ext cx="1764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265720" y="4987800"/>
              <a:ext cx="3492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659560" y="511344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0"/>
                  </a:moveTo>
                  <a:lnTo>
                    <a:pt x="0" y="11"/>
                  </a:lnTo>
                  <a:lnTo>
                    <a:pt x="0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676840" y="5024520"/>
              <a:ext cx="125640" cy="88920"/>
            </a:xfrm>
            <a:prstGeom prst="roundRect">
              <a:avLst>
                <a:gd name="adj" fmla="val 446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659560" y="5005440"/>
              <a:ext cx="161640" cy="125280"/>
            </a:xfrm>
            <a:prstGeom prst="roundRect">
              <a:avLst>
                <a:gd name="adj" fmla="val 3164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695920" y="5059440"/>
              <a:ext cx="8892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695920" y="5059440"/>
              <a:ext cx="10656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641920" y="516744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8" name="" descr=""/>
            <p:cNvPicPr/>
            <p:nvPr/>
          </p:nvPicPr>
          <p:blipFill>
            <a:blip r:embed="rId15"/>
            <a:stretch/>
          </p:blipFill>
          <p:spPr>
            <a:xfrm>
              <a:off x="5695920" y="5059440"/>
              <a:ext cx="716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5659560" y="5167440"/>
              <a:ext cx="144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659560" y="5167440"/>
              <a:ext cx="144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641920" y="5167440"/>
              <a:ext cx="180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695920" y="5095800"/>
              <a:ext cx="8892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76840" y="5130720"/>
              <a:ext cx="125640" cy="1908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5767200" y="5130720"/>
              <a:ext cx="34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5695560" y="51307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5730840" y="5130720"/>
              <a:ext cx="54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676840" y="5130720"/>
              <a:ext cx="90720" cy="1800"/>
            </a:xfrm>
            <a:custGeom>
              <a:avLst/>
              <a:gdLst/>
              <a:ahLst/>
              <a:rect l="l" t="t" r="r" b="b"/>
              <a:pathLst>
                <a:path w="57" h="0">
                  <a:moveTo>
                    <a:pt x="57" y="0"/>
                  </a:move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713560" y="5041800"/>
              <a:ext cx="3492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713560" y="5041800"/>
              <a:ext cx="5400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122800" y="484488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0"/>
                  </a:moveTo>
                  <a:lnTo>
                    <a:pt x="0" y="11"/>
                  </a:lnTo>
                  <a:lnTo>
                    <a:pt x="0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57720" y="4773600"/>
              <a:ext cx="1080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40440" y="4756320"/>
              <a:ext cx="142920" cy="106200"/>
            </a:xfrm>
            <a:prstGeom prst="roundRect">
              <a:avLst>
                <a:gd name="adj" fmla="val 37315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76800" y="4791240"/>
              <a:ext cx="8892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76800" y="4791240"/>
              <a:ext cx="106560" cy="53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122800" y="4898880"/>
              <a:ext cx="1764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6" name="" descr=""/>
            <p:cNvPicPr/>
            <p:nvPr/>
          </p:nvPicPr>
          <p:blipFill>
            <a:blip r:embed="rId16"/>
            <a:stretch/>
          </p:blipFill>
          <p:spPr>
            <a:xfrm>
              <a:off x="5176800" y="4791240"/>
              <a:ext cx="71640" cy="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"/>
            <p:cNvSpPr/>
            <p:nvPr/>
          </p:nvSpPr>
          <p:spPr>
            <a:xfrm>
              <a:off x="5140440" y="4898880"/>
              <a:ext cx="144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122800" y="4898880"/>
              <a:ext cx="1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122800" y="4898880"/>
              <a:ext cx="1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76800" y="4844880"/>
              <a:ext cx="8892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140440" y="4862520"/>
              <a:ext cx="142920" cy="17280"/>
            </a:xfrm>
            <a:custGeom>
              <a:avLst/>
              <a:gdLst/>
              <a:ahLst/>
              <a:rect l="l" t="t" r="r" b="b"/>
              <a:pathLst>
                <a:path w="90" h="11">
                  <a:moveTo>
                    <a:pt x="79" y="0"/>
                  </a:moveTo>
                  <a:lnTo>
                    <a:pt x="90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5248440" y="4879800"/>
              <a:ext cx="17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5176440" y="486252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5194440" y="4862520"/>
              <a:ext cx="7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157720" y="4862520"/>
              <a:ext cx="71640" cy="144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45" y="0"/>
                  </a:move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5157360" y="486252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194440" y="4773600"/>
              <a:ext cx="1728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94440" y="4773600"/>
              <a:ext cx="3492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570640" y="4827600"/>
              <a:ext cx="16020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16640" y="4844880"/>
              <a:ext cx="1440" cy="26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5354640" y="4808520"/>
              <a:ext cx="162000" cy="16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5248080" y="4791240"/>
              <a:ext cx="231480" cy="3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62640" y="4737240"/>
              <a:ext cx="125280" cy="107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408640" y="5184720"/>
              <a:ext cx="54000" cy="716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34" y="0"/>
                  </a:moveTo>
                  <a:lnTo>
                    <a:pt x="0" y="11"/>
                  </a:lnTo>
                  <a:lnTo>
                    <a:pt x="0" y="4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445000" y="5113440"/>
              <a:ext cx="10656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425920" y="5095800"/>
              <a:ext cx="144720" cy="106560"/>
            </a:xfrm>
            <a:prstGeom prst="roundRect">
              <a:avLst>
                <a:gd name="adj" fmla="val 37315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62640" y="5130720"/>
              <a:ext cx="71280" cy="3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62640" y="5130720"/>
              <a:ext cx="8892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91000" y="523872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11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0" name="" descr=""/>
            <p:cNvPicPr/>
            <p:nvPr/>
          </p:nvPicPr>
          <p:blipFill>
            <a:blip r:embed="rId17"/>
            <a:stretch/>
          </p:blipFill>
          <p:spPr>
            <a:xfrm>
              <a:off x="5462640" y="5130720"/>
              <a:ext cx="71280" cy="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>
              <a:off x="5408640" y="5256360"/>
              <a:ext cx="360" cy="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445000" y="5184720"/>
              <a:ext cx="106560" cy="1764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425920" y="5202360"/>
              <a:ext cx="144720" cy="19080"/>
            </a:xfrm>
            <a:custGeom>
              <a:avLst/>
              <a:gdLst/>
              <a:ahLst/>
              <a:rect l="l" t="t" r="r" b="b"/>
              <a:pathLst>
                <a:path w="91" h="12">
                  <a:moveTo>
                    <a:pt x="79" y="0"/>
                  </a:moveTo>
                  <a:lnTo>
                    <a:pt x="91" y="12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5533560" y="5221440"/>
              <a:ext cx="17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462640" y="5202360"/>
              <a:ext cx="7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5479560" y="5202360"/>
              <a:ext cx="71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5462640" y="5221440"/>
              <a:ext cx="54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444640" y="5202360"/>
              <a:ext cx="34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5444640" y="5221440"/>
              <a:ext cx="17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479920" y="5113440"/>
              <a:ext cx="1908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479920" y="5113440"/>
              <a:ext cx="36720" cy="54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38840" y="489888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0"/>
                  </a:moveTo>
                  <a:lnTo>
                    <a:pt x="0" y="0"/>
                  </a:lnTo>
                  <a:lnTo>
                    <a:pt x="0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3760" y="4808520"/>
              <a:ext cx="1080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856120" y="4791240"/>
              <a:ext cx="142920" cy="10764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892840" y="4827600"/>
              <a:ext cx="7128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892840" y="4827600"/>
              <a:ext cx="88920" cy="52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21200" y="4952880"/>
              <a:ext cx="34920" cy="1764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1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8" name="" descr=""/>
            <p:cNvPicPr/>
            <p:nvPr/>
          </p:nvPicPr>
          <p:blipFill>
            <a:blip r:embed="rId18"/>
            <a:stretch/>
          </p:blipFill>
          <p:spPr>
            <a:xfrm>
              <a:off x="5892840" y="4827600"/>
              <a:ext cx="71280" cy="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"/>
            <p:cNvSpPr/>
            <p:nvPr/>
          </p:nvSpPr>
          <p:spPr>
            <a:xfrm>
              <a:off x="5838840" y="4952880"/>
              <a:ext cx="360" cy="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73760" y="4879800"/>
              <a:ext cx="108000" cy="1908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56120" y="4898880"/>
              <a:ext cx="142920" cy="17640"/>
            </a:xfrm>
            <a:custGeom>
              <a:avLst/>
              <a:gdLst/>
              <a:ahLst/>
              <a:rect l="l" t="t" r="r" b="b"/>
              <a:pathLst>
                <a:path w="90" h="11">
                  <a:moveTo>
                    <a:pt x="79" y="0"/>
                  </a:moveTo>
                  <a:lnTo>
                    <a:pt x="90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5963760" y="4916520"/>
              <a:ext cx="17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5892840" y="4898880"/>
              <a:ext cx="71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5909760" y="4916520"/>
              <a:ext cx="71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5892480" y="4916520"/>
              <a:ext cx="52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5873400" y="4916520"/>
              <a:ext cx="36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5873400" y="491652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10120" y="4827600"/>
              <a:ext cx="17640" cy="1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910120" y="4827600"/>
              <a:ext cx="34920" cy="3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79120" y="46450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03120" y="45943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61640" y="1876320"/>
              <a:ext cx="107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C Helvetica Condensed"/>
                </a:rPr>
                <a:t>Student subn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820240" y="1876320"/>
              <a:ext cx="85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C Helvetica Condensed"/>
                </a:rPr>
                <a:t>Staff subn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20000" y="3036960"/>
              <a:ext cx="179280" cy="349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020000" y="3036960"/>
              <a:ext cx="196920" cy="5400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579760" y="489888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0"/>
                  </a:moveTo>
                  <a:lnTo>
                    <a:pt x="34" y="0"/>
                  </a:lnTo>
                  <a:lnTo>
                    <a:pt x="34" y="3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490840" y="4808520"/>
              <a:ext cx="108000" cy="71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473200" y="4791240"/>
              <a:ext cx="142920" cy="107640"/>
            </a:xfrm>
            <a:prstGeom prst="roundRect">
              <a:avLst>
                <a:gd name="adj" fmla="val 36764"/>
              </a:avLst>
            </a:prstGeom>
            <a:noFill/>
            <a:ln w="4428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490840" y="4827600"/>
              <a:ext cx="88920" cy="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490840" y="4827600"/>
              <a:ext cx="108000" cy="52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616120" y="49528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3b3"/>
            </a:solidFill>
            <a:ln w="2556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2" name="" descr=""/>
            <p:cNvPicPr/>
            <p:nvPr/>
          </p:nvPicPr>
          <p:blipFill>
            <a:blip r:embed="rId19"/>
            <a:stretch/>
          </p:blipFill>
          <p:spPr>
            <a:xfrm>
              <a:off x="2508120" y="4827600"/>
              <a:ext cx="71640" cy="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2616120" y="4952880"/>
              <a:ext cx="1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633760" y="49528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490840" y="4879800"/>
              <a:ext cx="88920" cy="19080"/>
            </a:xfrm>
            <a:prstGeom prst="rect">
              <a:avLst/>
            </a:prstGeom>
            <a:solidFill>
              <a:srgbClr val="d9aa73"/>
            </a:solidFill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73200" y="4898880"/>
              <a:ext cx="142920" cy="17640"/>
            </a:xfrm>
            <a:custGeom>
              <a:avLst/>
              <a:gdLst/>
              <a:ahLst/>
              <a:rect l="l" t="t" r="r" b="b"/>
              <a:pathLst>
                <a:path w="90" h="11">
                  <a:moveTo>
                    <a:pt x="11" y="0"/>
                  </a:moveTo>
                  <a:lnTo>
                    <a:pt x="0" y="11"/>
                  </a:lnTo>
                  <a:lnTo>
                    <a:pt x="90" y="11"/>
                  </a:lnTo>
                  <a:lnTo>
                    <a:pt x="7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2556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490840" y="4916520"/>
              <a:ext cx="17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490840" y="489888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490840" y="4916520"/>
              <a:ext cx="71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527200" y="4916520"/>
              <a:ext cx="71640" cy="144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0" y="0"/>
                  </a:moveTo>
                  <a:lnTo>
                    <a:pt x="22" y="0"/>
                  </a:lnTo>
                  <a:lnTo>
                    <a:pt x="4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579760" y="4916520"/>
              <a:ext cx="19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544840" y="4827600"/>
              <a:ext cx="17280" cy="1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544840" y="4827600"/>
              <a:ext cx="34920" cy="3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930720" y="3322800"/>
              <a:ext cx="106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056360" y="3216240"/>
              <a:ext cx="106560" cy="125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020000" y="3287880"/>
              <a:ext cx="179280" cy="536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020000" y="3287880"/>
              <a:ext cx="196920" cy="7128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6930720" y="3627360"/>
              <a:ext cx="1062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056360" y="3502080"/>
              <a:ext cx="106560" cy="125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020000" y="3591000"/>
              <a:ext cx="179280" cy="540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020000" y="3591000"/>
              <a:ext cx="196920" cy="7308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930720" y="3878280"/>
              <a:ext cx="106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056360" y="3770280"/>
              <a:ext cx="106560" cy="10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020000" y="3841920"/>
              <a:ext cx="179280" cy="536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020000" y="3841920"/>
              <a:ext cx="196920" cy="7128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551560" y="2552760"/>
              <a:ext cx="1003320" cy="1808280"/>
            </a:xfrm>
            <a:custGeom>
              <a:avLst/>
              <a:gdLst/>
              <a:ahLst/>
              <a:rect l="l" t="t" r="r" b="b"/>
              <a:pathLst>
                <a:path w="632" h="1139">
                  <a:moveTo>
                    <a:pt x="0" y="0"/>
                  </a:moveTo>
                  <a:lnTo>
                    <a:pt x="0" y="1139"/>
                  </a:lnTo>
                  <a:lnTo>
                    <a:pt x="632" y="113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41920" y="2535120"/>
              <a:ext cx="876240" cy="1235160"/>
            </a:xfrm>
            <a:custGeom>
              <a:avLst/>
              <a:gdLst/>
              <a:ahLst/>
              <a:rect l="l" t="t" r="r" b="b"/>
              <a:pathLst>
                <a:path w="552" h="778">
                  <a:moveTo>
                    <a:pt x="0" y="0"/>
                  </a:moveTo>
                  <a:lnTo>
                    <a:pt x="0" y="778"/>
                  </a:lnTo>
                  <a:lnTo>
                    <a:pt x="552" y="77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713560" y="2552760"/>
              <a:ext cx="823680" cy="609480"/>
            </a:xfrm>
            <a:custGeom>
              <a:avLst/>
              <a:gdLst/>
              <a:ahLst/>
              <a:rect l="l" t="t" r="r" b="b"/>
              <a:pathLst>
                <a:path w="519" h="384">
                  <a:moveTo>
                    <a:pt x="0" y="0"/>
                  </a:moveTo>
                  <a:lnTo>
                    <a:pt x="0" y="384"/>
                  </a:lnTo>
                  <a:lnTo>
                    <a:pt x="519" y="38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518160" y="3036960"/>
              <a:ext cx="108000" cy="268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518160" y="3036960"/>
              <a:ext cx="125640" cy="28584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518160" y="4235400"/>
              <a:ext cx="108000" cy="2509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518160" y="4235400"/>
              <a:ext cx="125640" cy="27000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518160" y="3645000"/>
              <a:ext cx="108000" cy="2505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518160" y="3645000"/>
              <a:ext cx="125640" cy="26820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337080" y="333072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337800" y="3456000"/>
              <a:ext cx="50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erv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803840" y="141300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outer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772160" y="1521000"/>
              <a:ext cx="47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irewa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33000" y="2016000"/>
              <a:ext cx="79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94.25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835640" y="3098880"/>
              <a:ext cx="160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Zapf Dingbats"/>
                  <a:ea typeface="Zapf Dingbats"/>
                </a:rPr>
                <a:t>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605560" y="5829480"/>
              <a:ext cx="268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587920" y="5972040"/>
              <a:ext cx="176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873760" y="5972040"/>
              <a:ext cx="1908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605560" y="5972040"/>
              <a:ext cx="2682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144120" y="5945040"/>
              <a:ext cx="1379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00 Mbps Eth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89000" y="6105600"/>
              <a:ext cx="169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switch:  Ethernet 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132240" y="5748480"/>
              <a:ext cx="129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0 Mbps Eth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584600" y="5400720"/>
              <a:ext cx="270000" cy="357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584600" y="5400720"/>
              <a:ext cx="287280" cy="37476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060640" y="1855800"/>
              <a:ext cx="2631960" cy="3741840"/>
            </a:xfrm>
            <a:custGeom>
              <a:avLst/>
              <a:gdLst>
                <a:gd name="textAreaLeft" fmla="*/ 95400 w 2631960"/>
                <a:gd name="textAreaRight" fmla="*/ 2536560 w 2631960"/>
                <a:gd name="textAreaTop" fmla="*/ 95400 h 3741840"/>
                <a:gd name="textAreaBottom" fmla="*/ 3646440 h 3741840"/>
              </a:gdLst>
              <a:ahLst/>
              <a:rect l="textAreaLeft" t="textAreaTop" r="textAreaRight" b="textAreaBottom"/>
              <a:pathLst>
                <a:path w="21600" h="30707">
                  <a:moveTo>
                    <a:pt x="2677" y="0"/>
                  </a:moveTo>
                  <a:arcTo wR="2677" hR="2677" stAng="16200000" swAng="-5400000"/>
                  <a:lnTo>
                    <a:pt x="0" y="28030"/>
                  </a:lnTo>
                  <a:arcTo wR="2677" hR="2677" stAng="10800000" swAng="-5400000"/>
                  <a:lnTo>
                    <a:pt x="18923" y="30707"/>
                  </a:lnTo>
                  <a:arcTo wR="2677" hR="2677" stAng="5400000" swAng="-5400000"/>
                  <a:lnTo>
                    <a:pt x="21600" y="2677"/>
                  </a:lnTo>
                  <a:arcTo wR="2677" hR="2677" stAng="0" swAng="-5400000"/>
                  <a:close/>
                </a:path>
              </a:pathLst>
            </a:cu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729320" y="1855800"/>
              <a:ext cx="2039760" cy="3741840"/>
            </a:xfrm>
            <a:custGeom>
              <a:avLst/>
              <a:gdLst>
                <a:gd name="textAreaLeft" fmla="*/ 95400 w 2039760"/>
                <a:gd name="textAreaRight" fmla="*/ 1944360 w 2039760"/>
                <a:gd name="textAreaTop" fmla="*/ 95400 h 3741840"/>
                <a:gd name="textAreaBottom" fmla="*/ 3646440 h 3741840"/>
              </a:gdLst>
              <a:ahLst/>
              <a:rect l="textAreaLeft" t="textAreaTop" r="textAreaRight" b="textAreaBottom"/>
              <a:pathLst>
                <a:path w="21600" h="39621">
                  <a:moveTo>
                    <a:pt x="3454" y="0"/>
                  </a:moveTo>
                  <a:arcTo wR="3454" hR="3454" stAng="16200000" swAng="-5400000"/>
                  <a:lnTo>
                    <a:pt x="0" y="36167"/>
                  </a:lnTo>
                  <a:arcTo wR="3454" hR="3454" stAng="10800000" swAng="-5400000"/>
                  <a:lnTo>
                    <a:pt x="18146" y="39621"/>
                  </a:lnTo>
                  <a:arcTo wR="3454" hR="3454" stAng="5400000" swAng="-5400000"/>
                  <a:lnTo>
                    <a:pt x="21600" y="3454"/>
                  </a:lnTo>
                  <a:arcTo wR="3454" hR="3454" stAng="0" swAng="-5400000"/>
                  <a:close/>
                </a:path>
              </a:pathLst>
            </a:cu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016680" y="2281320"/>
              <a:ext cx="70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ile server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015600" y="24066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786720" y="2571840"/>
              <a:ext cx="501480" cy="1646280"/>
            </a:xfrm>
            <a:custGeom>
              <a:avLst/>
              <a:gdLst>
                <a:gd name="textAreaLeft" fmla="*/ 69120 w 501480"/>
                <a:gd name="textAreaRight" fmla="*/ 432360 w 501480"/>
                <a:gd name="textAreaTop" fmla="*/ 69120 h 1646280"/>
                <a:gd name="textAreaBottom" fmla="*/ 1577160 h 1646280"/>
              </a:gdLst>
              <a:ahLst/>
              <a:rect l="textAreaLeft" t="textAreaTop" r="textAreaRight" b="textAreaBottom"/>
              <a:pathLst>
                <a:path w="21600" h="70874">
                  <a:moveTo>
                    <a:pt x="10185" y="0"/>
                  </a:moveTo>
                  <a:arcTo wR="10185" hR="10185" stAng="16200000" swAng="-5400000"/>
                  <a:lnTo>
                    <a:pt x="0" y="60689"/>
                  </a:lnTo>
                  <a:arcTo wR="10185" hR="10185" stAng="10800000" swAng="-5400000"/>
                  <a:lnTo>
                    <a:pt x="11415" y="70874"/>
                  </a:lnTo>
                  <a:arcTo wR="10185" hR="10185" stAng="5400000" swAng="-5400000"/>
                  <a:lnTo>
                    <a:pt x="21600" y="10185"/>
                  </a:lnTo>
                  <a:arcTo wR="10185" hR="10185" stAng="0" swAng="-5400000"/>
                  <a:close/>
                </a:path>
              </a:pathLst>
            </a:cu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991560" y="277668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rin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612800" y="1425600"/>
              <a:ext cx="3116520" cy="376200"/>
            </a:xfrm>
            <a:prstGeom prst="roundRect">
              <a:avLst>
                <a:gd name="adj" fmla="val 46204"/>
              </a:avLst>
            </a:pr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541520" y="1389240"/>
              <a:ext cx="287280" cy="48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523880" y="1371600"/>
              <a:ext cx="322560" cy="519120"/>
            </a:xfrm>
            <a:prstGeom prst="rect">
              <a:avLst/>
            </a:prstGeom>
            <a:noFill/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628640" y="150480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amp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629000" y="1647720"/>
              <a:ext cx="39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12800" y="5632560"/>
              <a:ext cx="3133800" cy="376200"/>
            </a:xfrm>
            <a:prstGeom prst="roundRect">
              <a:avLst>
                <a:gd name="adj" fmla="val 46204"/>
              </a:avLst>
            </a:pr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541520" y="5597640"/>
              <a:ext cx="30492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541520" y="5597640"/>
              <a:ext cx="322200" cy="5000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736640" y="567684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amp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737000" y="5819760"/>
              <a:ext cx="39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36720" y="5303880"/>
              <a:ext cx="70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C Helvetica Condensed"/>
                </a:rPr>
                <a:t>138.37.94.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1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unnelling for IPv6 migr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645480" y="2212920"/>
            <a:ext cx="8011080" cy="2439360"/>
            <a:chOff x="645480" y="2212920"/>
            <a:chExt cx="8011080" cy="2439360"/>
          </a:xfrm>
        </p:grpSpPr>
        <p:sp>
          <p:nvSpPr>
            <p:cNvPr id="949" name=""/>
            <p:cNvSpPr/>
            <p:nvPr/>
          </p:nvSpPr>
          <p:spPr>
            <a:xfrm>
              <a:off x="3781440" y="2411280"/>
              <a:ext cx="2262240" cy="1762200"/>
            </a:xfrm>
            <a:custGeom>
              <a:avLst/>
              <a:gdLst/>
              <a:ahLst/>
              <a:rect l="l" t="t" r="r" b="b"/>
              <a:pathLst>
                <a:path w="1425" h="1110">
                  <a:moveTo>
                    <a:pt x="37" y="259"/>
                  </a:moveTo>
                  <a:lnTo>
                    <a:pt x="74" y="185"/>
                  </a:lnTo>
                  <a:lnTo>
                    <a:pt x="148" y="111"/>
                  </a:lnTo>
                  <a:lnTo>
                    <a:pt x="222" y="74"/>
                  </a:lnTo>
                  <a:lnTo>
                    <a:pt x="278" y="74"/>
                  </a:lnTo>
                  <a:lnTo>
                    <a:pt x="333" y="74"/>
                  </a:lnTo>
                  <a:lnTo>
                    <a:pt x="426" y="74"/>
                  </a:lnTo>
                  <a:lnTo>
                    <a:pt x="537" y="92"/>
                  </a:lnTo>
                  <a:lnTo>
                    <a:pt x="648" y="92"/>
                  </a:lnTo>
                  <a:lnTo>
                    <a:pt x="740" y="111"/>
                  </a:lnTo>
                  <a:lnTo>
                    <a:pt x="814" y="55"/>
                  </a:lnTo>
                  <a:lnTo>
                    <a:pt x="851" y="18"/>
                  </a:lnTo>
                  <a:lnTo>
                    <a:pt x="944" y="0"/>
                  </a:lnTo>
                  <a:lnTo>
                    <a:pt x="1018" y="0"/>
                  </a:lnTo>
                  <a:lnTo>
                    <a:pt x="1092" y="0"/>
                  </a:lnTo>
                  <a:lnTo>
                    <a:pt x="1147" y="37"/>
                  </a:lnTo>
                  <a:lnTo>
                    <a:pt x="1184" y="74"/>
                  </a:lnTo>
                  <a:lnTo>
                    <a:pt x="1240" y="92"/>
                  </a:lnTo>
                  <a:lnTo>
                    <a:pt x="1314" y="185"/>
                  </a:lnTo>
                  <a:lnTo>
                    <a:pt x="1406" y="351"/>
                  </a:lnTo>
                  <a:lnTo>
                    <a:pt x="1425" y="536"/>
                  </a:lnTo>
                  <a:lnTo>
                    <a:pt x="1425" y="666"/>
                  </a:lnTo>
                  <a:lnTo>
                    <a:pt x="1406" y="777"/>
                  </a:lnTo>
                  <a:lnTo>
                    <a:pt x="1369" y="962"/>
                  </a:lnTo>
                  <a:lnTo>
                    <a:pt x="1295" y="1054"/>
                  </a:lnTo>
                  <a:lnTo>
                    <a:pt x="1203" y="1110"/>
                  </a:lnTo>
                  <a:lnTo>
                    <a:pt x="1092" y="1073"/>
                  </a:lnTo>
                  <a:lnTo>
                    <a:pt x="999" y="1054"/>
                  </a:lnTo>
                  <a:lnTo>
                    <a:pt x="907" y="1036"/>
                  </a:lnTo>
                  <a:lnTo>
                    <a:pt x="814" y="1017"/>
                  </a:lnTo>
                  <a:lnTo>
                    <a:pt x="722" y="1017"/>
                  </a:lnTo>
                  <a:lnTo>
                    <a:pt x="629" y="1017"/>
                  </a:lnTo>
                  <a:lnTo>
                    <a:pt x="555" y="1036"/>
                  </a:lnTo>
                  <a:lnTo>
                    <a:pt x="481" y="1054"/>
                  </a:lnTo>
                  <a:lnTo>
                    <a:pt x="407" y="1054"/>
                  </a:lnTo>
                  <a:lnTo>
                    <a:pt x="352" y="1073"/>
                  </a:lnTo>
                  <a:lnTo>
                    <a:pt x="278" y="1073"/>
                  </a:lnTo>
                  <a:lnTo>
                    <a:pt x="222" y="1073"/>
                  </a:lnTo>
                  <a:lnTo>
                    <a:pt x="167" y="1036"/>
                  </a:lnTo>
                  <a:lnTo>
                    <a:pt x="130" y="1017"/>
                  </a:lnTo>
                  <a:lnTo>
                    <a:pt x="111" y="999"/>
                  </a:lnTo>
                  <a:lnTo>
                    <a:pt x="93" y="962"/>
                  </a:lnTo>
                  <a:lnTo>
                    <a:pt x="56" y="869"/>
                  </a:lnTo>
                  <a:lnTo>
                    <a:pt x="19" y="740"/>
                  </a:lnTo>
                  <a:lnTo>
                    <a:pt x="19" y="629"/>
                  </a:lnTo>
                  <a:lnTo>
                    <a:pt x="0" y="536"/>
                  </a:lnTo>
                  <a:lnTo>
                    <a:pt x="19" y="425"/>
                  </a:lnTo>
                  <a:lnTo>
                    <a:pt x="19" y="314"/>
                  </a:lnTo>
                  <a:lnTo>
                    <a:pt x="37" y="259"/>
                  </a:lnTo>
                  <a:lnTo>
                    <a:pt x="37" y="259"/>
                  </a:lnTo>
                  <a:close/>
                </a:path>
              </a:pathLst>
            </a:custGeom>
            <a:solidFill>
              <a:srgbClr val="ffdc99"/>
            </a:solidFill>
            <a:ln w="4284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24160" y="3116160"/>
              <a:ext cx="340668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224160" y="3468600"/>
              <a:ext cx="340668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755720" y="3262320"/>
              <a:ext cx="637236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138320" y="2881440"/>
              <a:ext cx="822240" cy="822240"/>
            </a:xfrm>
            <a:prstGeom prst="ellipse">
              <a:avLst/>
            </a:prstGeom>
            <a:solidFill>
              <a:srgbClr val="d9aa73"/>
            </a:solidFill>
            <a:ln w="428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492200" y="31528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834320" y="2881440"/>
              <a:ext cx="822240" cy="822240"/>
            </a:xfrm>
            <a:prstGeom prst="ellipse">
              <a:avLst/>
            </a:prstGeom>
            <a:solidFill>
              <a:srgbClr val="d9aa73"/>
            </a:solidFill>
            <a:ln w="428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175240" y="31528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989440" y="3086280"/>
              <a:ext cx="411120" cy="411120"/>
            </a:xfrm>
            <a:prstGeom prst="ellipse">
              <a:avLst/>
            </a:prstGeom>
            <a:solidFill>
              <a:srgbClr val="d9aa73"/>
            </a:solidFill>
            <a:ln w="428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396120" y="3086280"/>
              <a:ext cx="411120" cy="411120"/>
            </a:xfrm>
            <a:prstGeom prst="ellipse">
              <a:avLst/>
            </a:prstGeom>
            <a:solidFill>
              <a:srgbClr val="d9aa73"/>
            </a:solidFill>
            <a:ln w="428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35080" y="30067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61200" y="30067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5480" y="2212920"/>
              <a:ext cx="3684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IPv6 encapsulated in IPv4 packe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429000" y="2587680"/>
              <a:ext cx="264960" cy="6746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277880" y="4362480"/>
              <a:ext cx="1527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Encapsulator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311640" y="3614760"/>
              <a:ext cx="176040" cy="147600"/>
            </a:xfrm>
            <a:custGeom>
              <a:avLst/>
              <a:gdLst/>
              <a:ahLst/>
              <a:rect l="l" t="t" r="r" b="b"/>
              <a:pathLst>
                <a:path w="111" h="93">
                  <a:moveTo>
                    <a:pt x="93" y="74"/>
                  </a:moveTo>
                  <a:lnTo>
                    <a:pt x="74" y="93"/>
                  </a:lnTo>
                  <a:lnTo>
                    <a:pt x="0" y="0"/>
                  </a:lnTo>
                  <a:lnTo>
                    <a:pt x="111" y="56"/>
                  </a:lnTo>
                  <a:lnTo>
                    <a:pt x="93" y="74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487680" y="3732120"/>
              <a:ext cx="676440" cy="58752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278400" y="3614760"/>
              <a:ext cx="176400" cy="17604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18" y="74"/>
                  </a:moveTo>
                  <a:lnTo>
                    <a:pt x="0" y="56"/>
                  </a:lnTo>
                  <a:lnTo>
                    <a:pt x="111" y="0"/>
                  </a:lnTo>
                  <a:lnTo>
                    <a:pt x="55" y="111"/>
                  </a:lnTo>
                  <a:lnTo>
                    <a:pt x="18" y="74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5778000" y="3762360"/>
              <a:ext cx="528840" cy="5572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357080" y="2746440"/>
              <a:ext cx="1393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IPv4 networ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2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CP/IP lay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609480" y="1712880"/>
            <a:ext cx="7823160" cy="4184640"/>
            <a:chOff x="609480" y="1712880"/>
            <a:chExt cx="7823160" cy="4184640"/>
          </a:xfrm>
        </p:grpSpPr>
        <p:sp>
          <p:nvSpPr>
            <p:cNvPr id="971" name=""/>
            <p:cNvSpPr/>
            <p:nvPr/>
          </p:nvSpPr>
          <p:spPr>
            <a:xfrm>
              <a:off x="609480" y="4556160"/>
              <a:ext cx="7799400" cy="473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09480" y="4556160"/>
              <a:ext cx="7823160" cy="496800"/>
            </a:xfrm>
            <a:prstGeom prst="rect">
              <a:avLst/>
            </a:prstGeom>
            <a:noFill/>
            <a:ln w="363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09480" y="5351400"/>
              <a:ext cx="7799400" cy="4716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09480" y="5351400"/>
              <a:ext cx="7823160" cy="496800"/>
            </a:xfrm>
            <a:prstGeom prst="rect">
              <a:avLst/>
            </a:prstGeom>
            <a:noFill/>
            <a:ln w="363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09480" y="3787920"/>
              <a:ext cx="7799400" cy="471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09480" y="3787920"/>
              <a:ext cx="7823160" cy="49500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09480" y="2992320"/>
              <a:ext cx="7799400" cy="4716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09480" y="2992320"/>
              <a:ext cx="7823160" cy="49716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9480" y="2222640"/>
              <a:ext cx="7799400" cy="471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9480" y="2222640"/>
              <a:ext cx="7823160" cy="49680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473720" y="2755800"/>
              <a:ext cx="319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essages (UDP) or Streams (TC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944800" y="2147760"/>
              <a:ext cx="793800" cy="37497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292560" y="2471760"/>
              <a:ext cx="48960" cy="305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57080" y="240840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58880" y="32036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61760" y="394812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70480" y="3525840"/>
              <a:ext cx="188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DP or TCP pack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471200" y="4270320"/>
              <a:ext cx="1207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P datagra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470480" y="5089680"/>
              <a:ext cx="216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etwork-specific fr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002040" y="1712880"/>
              <a:ext cx="82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29800" y="191304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ay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46280" y="5513400"/>
              <a:ext cx="173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nderlying 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47360" y="4767120"/>
              <a:ext cx="163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etwork 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3390480" y="2843280"/>
              <a:ext cx="9939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267000" y="2817720"/>
              <a:ext cx="123840" cy="74880"/>
            </a:xfrm>
            <a:prstGeom prst="ellipse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3390480" y="3613320"/>
              <a:ext cx="9939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3390480" y="4408560"/>
              <a:ext cx="9939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267000" y="4383000"/>
              <a:ext cx="123840" cy="74880"/>
            </a:xfrm>
            <a:prstGeom prst="ellipse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3390480" y="5176800"/>
              <a:ext cx="9939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267000" y="5153040"/>
              <a:ext cx="123840" cy="74520"/>
            </a:xfrm>
            <a:prstGeom prst="ellipse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267000" y="4756320"/>
              <a:ext cx="123840" cy="1234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267000" y="3960720"/>
              <a:ext cx="123840" cy="12384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67000" y="3165480"/>
              <a:ext cx="123840" cy="1252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267000" y="2371680"/>
              <a:ext cx="123840" cy="12384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267000" y="3564000"/>
              <a:ext cx="123840" cy="74520"/>
            </a:xfrm>
            <a:prstGeom prst="ellipse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16320" y="1974960"/>
              <a:ext cx="50760" cy="48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241800" y="2023920"/>
              <a:ext cx="174600" cy="247680"/>
            </a:xfrm>
            <a:custGeom>
              <a:avLst/>
              <a:gdLst/>
              <a:ahLst/>
              <a:rect l="l" t="t" r="r" b="b"/>
              <a:pathLst>
                <a:path w="110" h="156">
                  <a:moveTo>
                    <a:pt x="63" y="0"/>
                  </a:moveTo>
                  <a:lnTo>
                    <a:pt x="110" y="0"/>
                  </a:lnTo>
                  <a:lnTo>
                    <a:pt x="63" y="156"/>
                  </a:lnTo>
                  <a:lnTo>
                    <a:pt x="0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751360" y="5575320"/>
              <a:ext cx="49320" cy="49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800680" y="5524560"/>
              <a:ext cx="247680" cy="149040"/>
            </a:xfrm>
            <a:custGeom>
              <a:avLst/>
              <a:gdLst/>
              <a:ahLst/>
              <a:rect l="l" t="t" r="r" b="b"/>
              <a:pathLst>
                <a:path w="156" h="94">
                  <a:moveTo>
                    <a:pt x="0" y="47"/>
                  </a:moveTo>
                  <a:lnTo>
                    <a:pt x="0" y="0"/>
                  </a:lnTo>
                  <a:lnTo>
                    <a:pt x="156" y="47"/>
                  </a:lnTo>
                  <a:lnTo>
                    <a:pt x="0" y="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316320" y="5575320"/>
              <a:ext cx="245916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267000" y="5549760"/>
              <a:ext cx="123840" cy="12384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3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Encapsulation in a message transmitted via TCP over an Etherne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711360" y="2114640"/>
            <a:ext cx="7848360" cy="2833560"/>
            <a:chOff x="711360" y="2114640"/>
            <a:chExt cx="7848360" cy="2833560"/>
          </a:xfrm>
        </p:grpSpPr>
        <p:sp>
          <p:nvSpPr>
            <p:cNvPr id="1014" name=""/>
            <p:cNvSpPr/>
            <p:nvPr/>
          </p:nvSpPr>
          <p:spPr>
            <a:xfrm>
              <a:off x="6027840" y="2114640"/>
              <a:ext cx="2481120" cy="2775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027840" y="2114640"/>
              <a:ext cx="2506680" cy="30312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378480" y="2201760"/>
              <a:ext cx="187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027840" y="2746440"/>
              <a:ext cx="2506680" cy="3045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52880" y="2746440"/>
              <a:ext cx="1974960" cy="2793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52880" y="2746440"/>
              <a:ext cx="2000160" cy="30456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218840" y="2808360"/>
              <a:ext cx="1093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C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977080" y="262080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32" y="0"/>
                  </a:moveTo>
                  <a:lnTo>
                    <a:pt x="64" y="0"/>
                  </a:lnTo>
                  <a:lnTo>
                    <a:pt x="32" y="63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27840" y="2417760"/>
              <a:ext cx="1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027840" y="2494080"/>
              <a:ext cx="144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27840" y="2595600"/>
              <a:ext cx="1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458200" y="262080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32" y="0"/>
                  </a:moveTo>
                  <a:lnTo>
                    <a:pt x="64" y="0"/>
                  </a:lnTo>
                  <a:lnTo>
                    <a:pt x="32" y="63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08960" y="241776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08960" y="2494080"/>
              <a:ext cx="180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508960" y="259560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2880" y="3354480"/>
              <a:ext cx="4481640" cy="303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02120" y="322740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32" y="0"/>
                  </a:moveTo>
                  <a:lnTo>
                    <a:pt x="64" y="0"/>
                  </a:lnTo>
                  <a:lnTo>
                    <a:pt x="32" y="64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52880" y="3025800"/>
              <a:ext cx="144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52880" y="3100320"/>
              <a:ext cx="144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52880" y="3201840"/>
              <a:ext cx="144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458200" y="325296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32" y="0"/>
                  </a:moveTo>
                  <a:lnTo>
                    <a:pt x="64" y="0"/>
                  </a:lnTo>
                  <a:lnTo>
                    <a:pt x="32" y="64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508960" y="3051000"/>
              <a:ext cx="1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508960" y="3125880"/>
              <a:ext cx="180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508960" y="322740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508120" y="3354480"/>
              <a:ext cx="1544760" cy="2775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508120" y="3354480"/>
              <a:ext cx="1570320" cy="30312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638080" y="34416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533680" y="4011480"/>
              <a:ext cx="6000840" cy="3049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458200" y="386064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32" y="0"/>
                  </a:moveTo>
                  <a:lnTo>
                    <a:pt x="64" y="0"/>
                  </a:lnTo>
                  <a:lnTo>
                    <a:pt x="32" y="63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8508960" y="3657600"/>
              <a:ext cx="180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508960" y="3733920"/>
              <a:ext cx="180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508960" y="3835440"/>
              <a:ext cx="180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62120" y="4011480"/>
              <a:ext cx="1771560" cy="2793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62120" y="4011480"/>
              <a:ext cx="1796760" cy="30492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56080" y="4073400"/>
              <a:ext cx="145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thernet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482920" y="386064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32" y="0"/>
                  </a:moveTo>
                  <a:lnTo>
                    <a:pt x="64" y="0"/>
                  </a:lnTo>
                  <a:lnTo>
                    <a:pt x="32" y="63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533680" y="3657600"/>
              <a:ext cx="144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533680" y="3733920"/>
              <a:ext cx="144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533680" y="3835440"/>
              <a:ext cx="1440" cy="252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458200" y="449280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32" y="0"/>
                  </a:moveTo>
                  <a:lnTo>
                    <a:pt x="64" y="0"/>
                  </a:lnTo>
                  <a:lnTo>
                    <a:pt x="32" y="64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08960" y="4290840"/>
              <a:ext cx="180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08960" y="4390920"/>
              <a:ext cx="180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508960" y="4467240"/>
              <a:ext cx="180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62120" y="4619520"/>
              <a:ext cx="7772400" cy="328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11360" y="449280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32" y="0"/>
                  </a:moveTo>
                  <a:lnTo>
                    <a:pt x="64" y="0"/>
                  </a:lnTo>
                  <a:lnTo>
                    <a:pt x="32" y="64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62120" y="4290840"/>
              <a:ext cx="144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62120" y="4390920"/>
              <a:ext cx="144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62120" y="4467240"/>
              <a:ext cx="1440" cy="25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803400" y="4681440"/>
              <a:ext cx="1341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thernet 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568840" y="2782800"/>
              <a:ext cx="30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521320" y="2771640"/>
              <a:ext cx="404640" cy="2541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592440" y="341640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546360" y="3405240"/>
              <a:ext cx="430200" cy="2268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329560" y="40734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255760" y="4037040"/>
              <a:ext cx="252360" cy="2538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4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programmer's conceptual view of a TCP/IP Interne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92468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5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nternet address structure, showing field sizes in bi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72" name="" descr=""/>
          <p:cNvPicPr/>
          <p:nvPr/>
        </p:nvPicPr>
        <p:blipFill>
          <a:blip r:embed="rId1"/>
          <a:stretch/>
        </p:blipFill>
        <p:spPr>
          <a:xfrm>
            <a:off x="762120" y="1670040"/>
            <a:ext cx="784836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Decimal representation of Internet address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0400" y="2013120"/>
            <a:ext cx="1081080" cy="29984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470400" y="2013120"/>
            <a:ext cx="1101600" cy="301932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735440" y="2033640"/>
            <a:ext cx="1081080" cy="29779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735440" y="2033640"/>
            <a:ext cx="1101960" cy="299880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999040" y="2033640"/>
            <a:ext cx="1081080" cy="29988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999040" y="2033640"/>
            <a:ext cx="1101960" cy="301932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206800" y="2013120"/>
            <a:ext cx="1081080" cy="29588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206800" y="2013120"/>
            <a:ext cx="1099800" cy="2977920"/>
          </a:xfrm>
          <a:prstGeom prst="rect">
            <a:avLst/>
          </a:prstGeom>
          <a:noFill/>
          <a:ln w="205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507760" y="186048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octet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744360" y="186048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octet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009400" y="186048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octet 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433160" y="2451240"/>
            <a:ext cx="61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lass A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446200" y="24717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 to 12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683160" y="42051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946760" y="42051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270480" y="42051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 to 25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433160" y="3022560"/>
            <a:ext cx="61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lass B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354040" y="304308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28 to 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438200" y="361476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lass C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338560" y="36338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92 to 223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338560" y="42051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24 to 239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92920" y="4184640"/>
            <a:ext cx="1427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lass D (multicast)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580200" y="3368520"/>
            <a:ext cx="814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etwork 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991240" y="2778120"/>
            <a:ext cx="814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etwork 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343600" y="2165400"/>
            <a:ext cx="814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etwork 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644440" y="277812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Host 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977360" y="216540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Host 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300000" y="336852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Host 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034520" y="3940200"/>
            <a:ext cx="1280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ulticast addr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144880" y="2360520"/>
            <a:ext cx="610920" cy="81000"/>
          </a:xfrm>
          <a:custGeom>
            <a:avLst/>
            <a:gdLst/>
            <a:ahLst/>
            <a:rect l="l" t="t" r="r" b="b"/>
            <a:pathLst>
              <a:path w="385" h="51">
                <a:moveTo>
                  <a:pt x="0" y="51"/>
                </a:moveTo>
                <a:lnTo>
                  <a:pt x="0" y="0"/>
                </a:lnTo>
                <a:lnTo>
                  <a:pt x="385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736720" y="2360520"/>
            <a:ext cx="569880" cy="81000"/>
          </a:xfrm>
          <a:custGeom>
            <a:avLst/>
            <a:gdLst/>
            <a:ahLst/>
            <a:rect l="l" t="t" r="r" b="b"/>
            <a:pathLst>
              <a:path w="359" h="51">
                <a:moveTo>
                  <a:pt x="359" y="51"/>
                </a:moveTo>
                <a:lnTo>
                  <a:pt x="359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144880" y="2952720"/>
            <a:ext cx="1265040" cy="81000"/>
          </a:xfrm>
          <a:custGeom>
            <a:avLst/>
            <a:gdLst/>
            <a:ahLst/>
            <a:rect l="l" t="t" r="r" b="b"/>
            <a:pathLst>
              <a:path w="797" h="51">
                <a:moveTo>
                  <a:pt x="0" y="51"/>
                </a:moveTo>
                <a:lnTo>
                  <a:pt x="0" y="0"/>
                </a:lnTo>
                <a:lnTo>
                  <a:pt x="797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368520" y="2952720"/>
            <a:ext cx="1182960" cy="81000"/>
          </a:xfrm>
          <a:custGeom>
            <a:avLst/>
            <a:gdLst/>
            <a:ahLst/>
            <a:rect l="l" t="t" r="r" b="b"/>
            <a:pathLst>
              <a:path w="745" h="51">
                <a:moveTo>
                  <a:pt x="745" y="51"/>
                </a:moveTo>
                <a:lnTo>
                  <a:pt x="745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144880" y="3522600"/>
            <a:ext cx="1917360" cy="82440"/>
          </a:xfrm>
          <a:custGeom>
            <a:avLst/>
            <a:gdLst/>
            <a:ahLst/>
            <a:rect l="l" t="t" r="r" b="b"/>
            <a:pathLst>
              <a:path w="1208" h="52">
                <a:moveTo>
                  <a:pt x="0" y="52"/>
                </a:moveTo>
                <a:lnTo>
                  <a:pt x="0" y="0"/>
                </a:lnTo>
                <a:lnTo>
                  <a:pt x="1208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021200" y="3522600"/>
            <a:ext cx="1816200" cy="82440"/>
          </a:xfrm>
          <a:custGeom>
            <a:avLst/>
            <a:gdLst/>
            <a:ahLst/>
            <a:rect l="l" t="t" r="r" b="b"/>
            <a:pathLst>
              <a:path w="1144" h="52">
                <a:moveTo>
                  <a:pt x="1144" y="52"/>
                </a:moveTo>
                <a:lnTo>
                  <a:pt x="1144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144880" y="4114800"/>
            <a:ext cx="2590560" cy="81000"/>
          </a:xfrm>
          <a:custGeom>
            <a:avLst/>
            <a:gdLst/>
            <a:ahLst/>
            <a:rect l="l" t="t" r="r" b="b"/>
            <a:pathLst>
              <a:path w="1632" h="51">
                <a:moveTo>
                  <a:pt x="0" y="51"/>
                </a:moveTo>
                <a:lnTo>
                  <a:pt x="0" y="0"/>
                </a:lnTo>
                <a:lnTo>
                  <a:pt x="1632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653000" y="4114800"/>
            <a:ext cx="2448000" cy="81000"/>
          </a:xfrm>
          <a:custGeom>
            <a:avLst/>
            <a:gdLst/>
            <a:ahLst/>
            <a:rect l="l" t="t" r="r" b="b"/>
            <a:pathLst>
              <a:path w="1542" h="51">
                <a:moveTo>
                  <a:pt x="1542" y="51"/>
                </a:moveTo>
                <a:lnTo>
                  <a:pt x="1542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429000" y="2360520"/>
            <a:ext cx="1754280" cy="81000"/>
          </a:xfrm>
          <a:custGeom>
            <a:avLst/>
            <a:gdLst/>
            <a:ahLst/>
            <a:rect l="l" t="t" r="r" b="b"/>
            <a:pathLst>
              <a:path w="1105" h="51">
                <a:moveTo>
                  <a:pt x="0" y="51"/>
                </a:moveTo>
                <a:lnTo>
                  <a:pt x="0" y="0"/>
                </a:lnTo>
                <a:lnTo>
                  <a:pt x="1105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164200" y="2360520"/>
            <a:ext cx="1957320" cy="81000"/>
          </a:xfrm>
          <a:custGeom>
            <a:avLst/>
            <a:gdLst/>
            <a:ahLst/>
            <a:rect l="l" t="t" r="r" b="b"/>
            <a:pathLst>
              <a:path w="1233" h="51">
                <a:moveTo>
                  <a:pt x="1233" y="51"/>
                </a:moveTo>
                <a:lnTo>
                  <a:pt x="1233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694400" y="2952720"/>
            <a:ext cx="1285560" cy="81000"/>
          </a:xfrm>
          <a:custGeom>
            <a:avLst/>
            <a:gdLst/>
            <a:ahLst/>
            <a:rect l="l" t="t" r="r" b="b"/>
            <a:pathLst>
              <a:path w="810" h="51">
                <a:moveTo>
                  <a:pt x="0" y="51"/>
                </a:moveTo>
                <a:lnTo>
                  <a:pt x="0" y="0"/>
                </a:lnTo>
                <a:lnTo>
                  <a:pt x="81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938920" y="2952720"/>
            <a:ext cx="1182600" cy="81000"/>
          </a:xfrm>
          <a:custGeom>
            <a:avLst/>
            <a:gdLst/>
            <a:ahLst/>
            <a:rect l="l" t="t" r="r" b="b"/>
            <a:pathLst>
              <a:path w="745" h="51">
                <a:moveTo>
                  <a:pt x="745" y="51"/>
                </a:moveTo>
                <a:lnTo>
                  <a:pt x="745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959440" y="3522600"/>
            <a:ext cx="631800" cy="82440"/>
          </a:xfrm>
          <a:custGeom>
            <a:avLst/>
            <a:gdLst/>
            <a:ahLst/>
            <a:rect l="l" t="t" r="r" b="b"/>
            <a:pathLst>
              <a:path w="398" h="52">
                <a:moveTo>
                  <a:pt x="0" y="52"/>
                </a:moveTo>
                <a:lnTo>
                  <a:pt x="0" y="0"/>
                </a:lnTo>
                <a:lnTo>
                  <a:pt x="398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550200" y="3522600"/>
            <a:ext cx="571320" cy="82440"/>
          </a:xfrm>
          <a:custGeom>
            <a:avLst/>
            <a:gdLst/>
            <a:ahLst/>
            <a:rect l="l" t="t" r="r" b="b"/>
            <a:pathLst>
              <a:path w="360" h="52">
                <a:moveTo>
                  <a:pt x="360" y="52"/>
                </a:moveTo>
                <a:lnTo>
                  <a:pt x="360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683160" y="36147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46760" y="36147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270480" y="36147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 to 25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683160" y="30430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946760" y="30430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270480" y="30430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683160" y="24717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946760" y="24717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270480" y="247176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034520" y="3940200"/>
            <a:ext cx="1280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ulticast addr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683160" y="4714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946760" y="4714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0 to 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270480" y="4714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 to 25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338560" y="471492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40 to 255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53400" y="4695840"/>
            <a:ext cx="1409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lass E (reserved)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144880" y="4624560"/>
            <a:ext cx="2590560" cy="82440"/>
          </a:xfrm>
          <a:custGeom>
            <a:avLst/>
            <a:gdLst/>
            <a:ahLst/>
            <a:rect l="l" t="t" r="r" b="b"/>
            <a:pathLst>
              <a:path w="1632" h="52">
                <a:moveTo>
                  <a:pt x="0" y="52"/>
                </a:moveTo>
                <a:lnTo>
                  <a:pt x="0" y="0"/>
                </a:lnTo>
                <a:lnTo>
                  <a:pt x="1632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53000" y="4624560"/>
            <a:ext cx="2448000" cy="82440"/>
          </a:xfrm>
          <a:custGeom>
            <a:avLst/>
            <a:gdLst/>
            <a:ahLst/>
            <a:rect l="l" t="t" r="r" b="b"/>
            <a:pathLst>
              <a:path w="1542" h="52">
                <a:moveTo>
                  <a:pt x="1542" y="52"/>
                </a:moveTo>
                <a:lnTo>
                  <a:pt x="1542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235640" y="23493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.0.0.0 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248600" y="2533680"/>
            <a:ext cx="1235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27.255.255.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240320" y="2981160"/>
            <a:ext cx="91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28.0.0.0 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248600" y="3165480"/>
            <a:ext cx="1235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91.255.255.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240320" y="3532320"/>
            <a:ext cx="91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192.0.0.0 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248600" y="3716280"/>
            <a:ext cx="1235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23.255.255.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240320" y="4124160"/>
            <a:ext cx="91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24.0.0.0 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248600" y="4307040"/>
            <a:ext cx="1235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39.255.255.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211520" y="4633920"/>
            <a:ext cx="915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40.0.0.0 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217640" y="4818240"/>
            <a:ext cx="1235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55.255.255.25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168320" y="1860480"/>
            <a:ext cx="1472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ange of addres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7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P packet layou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46" name="" descr=""/>
          <p:cNvPicPr/>
          <p:nvPr/>
        </p:nvPicPr>
        <p:blipFill>
          <a:blip r:embed="rId1"/>
          <a:stretch/>
        </p:blipFill>
        <p:spPr>
          <a:xfrm>
            <a:off x="609480" y="2932200"/>
            <a:ext cx="807732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8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Pv6 header layou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148" name="" descr=""/>
          <p:cNvPicPr/>
          <p:nvPr/>
        </p:nvPicPr>
        <p:blipFill>
          <a:blip r:embed="rId1"/>
          <a:stretch/>
        </p:blipFill>
        <p:spPr>
          <a:xfrm>
            <a:off x="609480" y="1895400"/>
            <a:ext cx="800100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Network typ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08000" y="2436840"/>
            <a:ext cx="715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58800" y="2436840"/>
            <a:ext cx="209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Bandwidth (Mbp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07440" y="2436840"/>
            <a:ext cx="1450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atency (m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4320" y="2886120"/>
            <a:ext cx="573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04920" y="2886120"/>
            <a:ext cx="909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1-2 k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57720" y="2886120"/>
            <a:ext cx="934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10-1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06360" y="2886120"/>
            <a:ext cx="51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1-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960" y="3189240"/>
            <a:ext cx="66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W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17640" y="3189240"/>
            <a:ext cx="1195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worldw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57360" y="3189240"/>
            <a:ext cx="1145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0.010-6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05640" y="3189240"/>
            <a:ext cx="934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100-5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3600" y="3492360"/>
            <a:ext cx="651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64880" y="3492360"/>
            <a:ext cx="1049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2-50 k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58440" y="3492360"/>
            <a:ext cx="654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1-15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06360" y="3492360"/>
            <a:ext cx="281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4680" y="3797280"/>
            <a:ext cx="1619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Wireless 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53120" y="3797280"/>
            <a:ext cx="1361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0.15-1.5 k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58440" y="3797280"/>
            <a:ext cx="51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2-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06360" y="3797280"/>
            <a:ext cx="51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5-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4320" y="4100400"/>
            <a:ext cx="1712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Wireless W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17640" y="4100400"/>
            <a:ext cx="1195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worldw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58080" y="4100400"/>
            <a:ext cx="864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0.010-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05640" y="4100400"/>
            <a:ext cx="934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100-5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3960" y="4403880"/>
            <a:ext cx="869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17640" y="4403880"/>
            <a:ext cx="1195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worldw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58080" y="4403880"/>
            <a:ext cx="864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0.010-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05640" y="4403880"/>
            <a:ext cx="934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100-5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80060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86056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37816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19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MobileIP routing mechanis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041880" y="3189240"/>
            <a:ext cx="2151360" cy="1800"/>
          </a:xfrm>
          <a:prstGeom prst="line">
            <a:avLst/>
          </a:prstGeom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487600" y="2728800"/>
            <a:ext cx="1440" cy="308160"/>
          </a:xfrm>
          <a:prstGeom prst="line">
            <a:avLst/>
          </a:prstGeom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333520" y="2664000"/>
            <a:ext cx="109800" cy="131760"/>
          </a:xfrm>
          <a:custGeom>
            <a:avLst/>
            <a:gdLst/>
            <a:ahLst/>
            <a:rect l="l" t="t" r="r" b="b"/>
            <a:pathLst>
              <a:path w="69" h="83">
                <a:moveTo>
                  <a:pt x="69" y="0"/>
                </a:moveTo>
                <a:lnTo>
                  <a:pt x="0" y="13"/>
                </a:lnTo>
                <a:lnTo>
                  <a:pt x="0" y="8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421000" y="2465280"/>
            <a:ext cx="263520" cy="176400"/>
          </a:xfrm>
          <a:prstGeom prst="roundRect">
            <a:avLst>
              <a:gd name="adj" fmla="val 4008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398680" y="2443320"/>
            <a:ext cx="308160" cy="220680"/>
          </a:xfrm>
          <a:prstGeom prst="roundRect">
            <a:avLst>
              <a:gd name="adj" fmla="val 32014"/>
            </a:avLst>
          </a:prstGeom>
          <a:noFill/>
          <a:ln w="1260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443320" y="2509920"/>
            <a:ext cx="218880" cy="8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443320" y="2509920"/>
            <a:ext cx="241200" cy="10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311560" y="2795760"/>
            <a:ext cx="44280" cy="64800"/>
          </a:xfrm>
          <a:custGeom>
            <a:avLst/>
            <a:gdLst/>
            <a:ahLst/>
            <a:rect l="l" t="t" r="r" b="b"/>
            <a:pathLst>
              <a:path w="28" h="41">
                <a:moveTo>
                  <a:pt x="14" y="0"/>
                </a:moveTo>
                <a:lnTo>
                  <a:pt x="0" y="0"/>
                </a:lnTo>
                <a:lnTo>
                  <a:pt x="0" y="13"/>
                </a:lnTo>
                <a:lnTo>
                  <a:pt x="0" y="27"/>
                </a:lnTo>
                <a:lnTo>
                  <a:pt x="0" y="41"/>
                </a:lnTo>
                <a:lnTo>
                  <a:pt x="14" y="41"/>
                </a:lnTo>
                <a:lnTo>
                  <a:pt x="28" y="27"/>
                </a:lnTo>
                <a:lnTo>
                  <a:pt x="28" y="13"/>
                </a:lnTo>
                <a:lnTo>
                  <a:pt x="28" y="0"/>
                </a:lnTo>
                <a:lnTo>
                  <a:pt x="14" y="0"/>
                </a:lnTo>
                <a:close/>
              </a:path>
            </a:pathLst>
          </a:custGeom>
          <a:solidFill>
            <a:srgbClr val="cf924c"/>
          </a:solidFill>
          <a:ln w="31680">
            <a:solidFill>
              <a:srgbClr val="cf92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1"/>
          <a:stretch/>
        </p:blipFill>
        <p:spPr>
          <a:xfrm>
            <a:off x="2443320" y="2509920"/>
            <a:ext cx="196560" cy="87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59" name=""/>
          <p:cNvSpPr/>
          <p:nvPr/>
        </p:nvSpPr>
        <p:spPr>
          <a:xfrm>
            <a:off x="2355840" y="2795760"/>
            <a:ext cx="1440" cy="20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333520" y="2795760"/>
            <a:ext cx="1800" cy="20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311560" y="2795760"/>
            <a:ext cx="1440" cy="20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421000" y="2641680"/>
            <a:ext cx="241200" cy="42840"/>
          </a:xfrm>
          <a:prstGeom prst="rect">
            <a:avLst/>
          </a:prstGeom>
          <a:solidFill>
            <a:srgbClr val="d9aa73"/>
          </a:solidFill>
          <a:ln w="1260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376360" y="2684520"/>
            <a:ext cx="330480" cy="44280"/>
          </a:xfrm>
          <a:custGeom>
            <a:avLst/>
            <a:gdLst/>
            <a:ahLst/>
            <a:rect l="l" t="t" r="r" b="b"/>
            <a:pathLst>
              <a:path w="208" h="28">
                <a:moveTo>
                  <a:pt x="194" y="0"/>
                </a:moveTo>
                <a:lnTo>
                  <a:pt x="208" y="28"/>
                </a:lnTo>
                <a:lnTo>
                  <a:pt x="0" y="28"/>
                </a:lnTo>
                <a:lnTo>
                  <a:pt x="28" y="0"/>
                </a:lnTo>
                <a:lnTo>
                  <a:pt x="194" y="0"/>
                </a:lnTo>
                <a:close/>
              </a:path>
            </a:pathLst>
          </a:custGeom>
          <a:noFill/>
          <a:ln w="12600">
            <a:solidFill>
              <a:srgbClr val="d9aa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H="1">
            <a:off x="2617560" y="2716200"/>
            <a:ext cx="66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2443320" y="2684520"/>
            <a:ext cx="218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2508120" y="2700360"/>
            <a:ext cx="154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2465280" y="2716200"/>
            <a:ext cx="131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2420640" y="2700360"/>
            <a:ext cx="66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2398680" y="2716200"/>
            <a:ext cx="4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487600" y="2487600"/>
            <a:ext cx="65160" cy="6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487600" y="2487600"/>
            <a:ext cx="87480" cy="8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333520" y="3036960"/>
            <a:ext cx="1536840" cy="1440"/>
          </a:xfrm>
          <a:prstGeom prst="line">
            <a:avLst/>
          </a:prstGeom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261880" y="2205000"/>
            <a:ext cx="57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2355840" y="4462560"/>
            <a:ext cx="1557360" cy="1440"/>
          </a:xfrm>
          <a:prstGeom prst="line">
            <a:avLst/>
          </a:prstGeom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058840" y="3967200"/>
            <a:ext cx="47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3913200" y="4242960"/>
            <a:ext cx="1440" cy="219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591240" y="2158920"/>
            <a:ext cx="1997280" cy="2019240"/>
          </a:xfrm>
          <a:custGeom>
            <a:avLst/>
            <a:gdLst>
              <a:gd name="textAreaLeft" fmla="*/ 117000 w 1997280"/>
              <a:gd name="textAreaRight" fmla="*/ 1880280 w 1997280"/>
              <a:gd name="textAreaTop" fmla="*/ 117000 h 2019240"/>
              <a:gd name="textAreaBottom" fmla="*/ 1902240 h 2019240"/>
            </a:gdLst>
            <a:ahLst/>
            <a:rect l="textAreaLeft" t="textAreaTop" r="textAreaRight" b="textAreaBottom"/>
            <a:pathLst>
              <a:path w="21600" h="21837">
                <a:moveTo>
                  <a:pt x="4327" y="0"/>
                </a:moveTo>
                <a:arcTo wR="4327" hR="4327" stAng="16200000" swAng="-5400000"/>
                <a:lnTo>
                  <a:pt x="0" y="17510"/>
                </a:lnTo>
                <a:arcTo wR="4327" hR="4327" stAng="10800000" swAng="-5400000"/>
                <a:lnTo>
                  <a:pt x="17273" y="21837"/>
                </a:lnTo>
                <a:arcTo wR="4327" hR="4327" stAng="5400000" swAng="-5400000"/>
                <a:lnTo>
                  <a:pt x="21600" y="4327"/>
                </a:lnTo>
                <a:arcTo wR="4327" hR="4327" stAng="0" swAng="-5400000"/>
                <a:close/>
              </a:path>
            </a:pathLst>
          </a:custGeom>
          <a:noFill/>
          <a:ln w="76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272360" y="2387520"/>
            <a:ext cx="1239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bile host M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951680" y="2992320"/>
            <a:ext cx="1800" cy="196920"/>
          </a:xfrm>
          <a:prstGeom prst="line">
            <a:avLst/>
          </a:prstGeom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710480" y="2860560"/>
            <a:ext cx="439920" cy="87480"/>
          </a:xfrm>
          <a:custGeom>
            <a:avLst/>
            <a:gdLst/>
            <a:ahLst/>
            <a:rect l="l" t="t" r="r" b="b"/>
            <a:pathLst>
              <a:path w="277" h="55">
                <a:moveTo>
                  <a:pt x="69" y="55"/>
                </a:moveTo>
                <a:lnTo>
                  <a:pt x="0" y="0"/>
                </a:lnTo>
                <a:lnTo>
                  <a:pt x="208" y="0"/>
                </a:lnTo>
                <a:lnTo>
                  <a:pt x="277" y="55"/>
                </a:lnTo>
                <a:lnTo>
                  <a:pt x="69" y="55"/>
                </a:lnTo>
                <a:close/>
              </a:path>
            </a:pathLst>
          </a:custGeom>
          <a:solidFill>
            <a:srgbClr val="d9aa73"/>
          </a:solidFill>
          <a:ln w="31680">
            <a:solidFill>
              <a:srgbClr val="d9aa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666200" y="2664000"/>
            <a:ext cx="352440" cy="174600"/>
          </a:xfrm>
          <a:custGeom>
            <a:avLst/>
            <a:gdLst/>
            <a:ahLst/>
            <a:rect l="l" t="t" r="r" b="b"/>
            <a:pathLst>
              <a:path w="222" h="110">
                <a:moveTo>
                  <a:pt x="194" y="0"/>
                </a:moveTo>
                <a:lnTo>
                  <a:pt x="222" y="110"/>
                </a:lnTo>
                <a:lnTo>
                  <a:pt x="28" y="110"/>
                </a:lnTo>
                <a:lnTo>
                  <a:pt x="0" y="0"/>
                </a:lnTo>
                <a:lnTo>
                  <a:pt x="194" y="0"/>
                </a:lnTo>
                <a:close/>
              </a:path>
            </a:pathLst>
          </a:custGeom>
          <a:noFill/>
          <a:ln w="31680">
            <a:solidFill>
              <a:srgbClr val="d9aa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819920" y="2948040"/>
            <a:ext cx="351000" cy="4428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819920" y="2948040"/>
            <a:ext cx="373320" cy="66600"/>
          </a:xfrm>
          <a:prstGeom prst="rect">
            <a:avLst/>
          </a:prstGeom>
          <a:noFill/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710480" y="2838600"/>
            <a:ext cx="87480" cy="153720"/>
          </a:xfrm>
          <a:custGeom>
            <a:avLst/>
            <a:gdLst/>
            <a:ahLst/>
            <a:rect l="l" t="t" r="r" b="b"/>
            <a:pathLst>
              <a:path w="55" h="97">
                <a:moveTo>
                  <a:pt x="0" y="0"/>
                </a:moveTo>
                <a:lnTo>
                  <a:pt x="0" y="28"/>
                </a:lnTo>
                <a:lnTo>
                  <a:pt x="55" y="97"/>
                </a:lnTo>
                <a:lnTo>
                  <a:pt x="55" y="69"/>
                </a:lnTo>
                <a:lnTo>
                  <a:pt x="0" y="0"/>
                </a:lnTo>
                <a:close/>
              </a:path>
            </a:pathLst>
          </a:custGeom>
          <a:solidFill>
            <a:srgbClr val="d9aa73"/>
          </a:solidFill>
          <a:ln w="31680">
            <a:solidFill>
              <a:srgbClr val="d9aa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777080" y="2860560"/>
            <a:ext cx="284400" cy="44640"/>
          </a:xfrm>
          <a:custGeom>
            <a:avLst/>
            <a:gdLst/>
            <a:ahLst/>
            <a:rect l="l" t="t" r="r" b="b"/>
            <a:pathLst>
              <a:path w="179" h="28">
                <a:moveTo>
                  <a:pt x="13" y="28"/>
                </a:moveTo>
                <a:lnTo>
                  <a:pt x="0" y="0"/>
                </a:lnTo>
                <a:lnTo>
                  <a:pt x="138" y="0"/>
                </a:lnTo>
                <a:lnTo>
                  <a:pt x="179" y="28"/>
                </a:lnTo>
                <a:lnTo>
                  <a:pt x="13" y="28"/>
                </a:lnTo>
                <a:close/>
              </a:path>
            </a:pathLst>
          </a:custGeom>
          <a:solidFill>
            <a:srgbClr val="999999"/>
          </a:solidFill>
          <a:ln w="3168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710480" y="2684520"/>
            <a:ext cx="154080" cy="111240"/>
          </a:xfrm>
          <a:custGeom>
            <a:avLst/>
            <a:gdLst/>
            <a:ahLst/>
            <a:rect l="l" t="t" r="r" b="b"/>
            <a:pathLst>
              <a:path w="97" h="70">
                <a:moveTo>
                  <a:pt x="83" y="0"/>
                </a:moveTo>
                <a:lnTo>
                  <a:pt x="97" y="70"/>
                </a:lnTo>
                <a:lnTo>
                  <a:pt x="14" y="70"/>
                </a:lnTo>
                <a:lnTo>
                  <a:pt x="0" y="0"/>
                </a:lnTo>
                <a:lnTo>
                  <a:pt x="83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886880" y="2684520"/>
            <a:ext cx="64800" cy="88920"/>
          </a:xfrm>
          <a:custGeom>
            <a:avLst/>
            <a:gdLst/>
            <a:ahLst/>
            <a:rect l="l" t="t" r="r" b="b"/>
            <a:pathLst>
              <a:path w="41" h="56">
                <a:moveTo>
                  <a:pt x="27" y="0"/>
                </a:moveTo>
                <a:lnTo>
                  <a:pt x="41" y="56"/>
                </a:lnTo>
                <a:lnTo>
                  <a:pt x="0" y="56"/>
                </a:lnTo>
                <a:lnTo>
                  <a:pt x="0" y="0"/>
                </a:lnTo>
                <a:lnTo>
                  <a:pt x="27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7337520" y="3188880"/>
            <a:ext cx="1440" cy="220680"/>
          </a:xfrm>
          <a:prstGeom prst="line">
            <a:avLst/>
          </a:prstGeom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272360" y="3387600"/>
            <a:ext cx="131760" cy="2858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272360" y="3387600"/>
            <a:ext cx="152280" cy="306360"/>
          </a:xfrm>
          <a:prstGeom prst="rect">
            <a:avLst/>
          </a:prstGeom>
          <a:noFill/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976800" y="379260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eign agent 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693960" y="2684520"/>
            <a:ext cx="2502000" cy="1954080"/>
          </a:xfrm>
          <a:custGeom>
            <a:avLst/>
            <a:gdLst/>
            <a:ahLst/>
            <a:rect l="l" t="t" r="r" b="b"/>
            <a:pathLst>
              <a:path w="1576" h="1231">
                <a:moveTo>
                  <a:pt x="41" y="291"/>
                </a:moveTo>
                <a:lnTo>
                  <a:pt x="69" y="208"/>
                </a:lnTo>
                <a:lnTo>
                  <a:pt x="152" y="125"/>
                </a:lnTo>
                <a:lnTo>
                  <a:pt x="249" y="83"/>
                </a:lnTo>
                <a:lnTo>
                  <a:pt x="304" y="97"/>
                </a:lnTo>
                <a:lnTo>
                  <a:pt x="373" y="83"/>
                </a:lnTo>
                <a:lnTo>
                  <a:pt x="456" y="83"/>
                </a:lnTo>
                <a:lnTo>
                  <a:pt x="581" y="97"/>
                </a:lnTo>
                <a:lnTo>
                  <a:pt x="705" y="111"/>
                </a:lnTo>
                <a:lnTo>
                  <a:pt x="830" y="111"/>
                </a:lnTo>
                <a:lnTo>
                  <a:pt x="885" y="70"/>
                </a:lnTo>
                <a:lnTo>
                  <a:pt x="954" y="28"/>
                </a:lnTo>
                <a:lnTo>
                  <a:pt x="1037" y="0"/>
                </a:lnTo>
                <a:lnTo>
                  <a:pt x="1134" y="0"/>
                </a:lnTo>
                <a:lnTo>
                  <a:pt x="1203" y="14"/>
                </a:lnTo>
                <a:lnTo>
                  <a:pt x="1272" y="42"/>
                </a:lnTo>
                <a:lnTo>
                  <a:pt x="1313" y="70"/>
                </a:lnTo>
                <a:lnTo>
                  <a:pt x="1383" y="111"/>
                </a:lnTo>
                <a:lnTo>
                  <a:pt x="1466" y="208"/>
                </a:lnTo>
                <a:lnTo>
                  <a:pt x="1548" y="388"/>
                </a:lnTo>
                <a:lnTo>
                  <a:pt x="1576" y="609"/>
                </a:lnTo>
                <a:lnTo>
                  <a:pt x="1576" y="747"/>
                </a:lnTo>
                <a:lnTo>
                  <a:pt x="1562" y="871"/>
                </a:lnTo>
                <a:lnTo>
                  <a:pt x="1521" y="1079"/>
                </a:lnTo>
                <a:lnTo>
                  <a:pt x="1438" y="1176"/>
                </a:lnTo>
                <a:lnTo>
                  <a:pt x="1327" y="1231"/>
                </a:lnTo>
                <a:lnTo>
                  <a:pt x="1217" y="1203"/>
                </a:lnTo>
                <a:lnTo>
                  <a:pt x="1092" y="1176"/>
                </a:lnTo>
                <a:lnTo>
                  <a:pt x="995" y="1162"/>
                </a:lnTo>
                <a:lnTo>
                  <a:pt x="885" y="1134"/>
                </a:lnTo>
                <a:lnTo>
                  <a:pt x="788" y="1134"/>
                </a:lnTo>
                <a:lnTo>
                  <a:pt x="691" y="1134"/>
                </a:lnTo>
                <a:lnTo>
                  <a:pt x="608" y="1148"/>
                </a:lnTo>
                <a:lnTo>
                  <a:pt x="525" y="1162"/>
                </a:lnTo>
                <a:lnTo>
                  <a:pt x="456" y="1176"/>
                </a:lnTo>
                <a:lnTo>
                  <a:pt x="373" y="1189"/>
                </a:lnTo>
                <a:lnTo>
                  <a:pt x="304" y="1189"/>
                </a:lnTo>
                <a:lnTo>
                  <a:pt x="235" y="1189"/>
                </a:lnTo>
                <a:lnTo>
                  <a:pt x="180" y="1162"/>
                </a:lnTo>
                <a:lnTo>
                  <a:pt x="124" y="1120"/>
                </a:lnTo>
                <a:lnTo>
                  <a:pt x="111" y="1106"/>
                </a:lnTo>
                <a:lnTo>
                  <a:pt x="97" y="1065"/>
                </a:lnTo>
                <a:lnTo>
                  <a:pt x="55" y="954"/>
                </a:lnTo>
                <a:lnTo>
                  <a:pt x="14" y="816"/>
                </a:lnTo>
                <a:lnTo>
                  <a:pt x="0" y="706"/>
                </a:lnTo>
                <a:lnTo>
                  <a:pt x="0" y="609"/>
                </a:lnTo>
                <a:lnTo>
                  <a:pt x="0" y="484"/>
                </a:lnTo>
                <a:lnTo>
                  <a:pt x="14" y="360"/>
                </a:lnTo>
                <a:lnTo>
                  <a:pt x="41" y="291"/>
                </a:lnTo>
                <a:lnTo>
                  <a:pt x="41" y="291"/>
                </a:lnTo>
                <a:close/>
              </a:path>
            </a:pathLst>
          </a:custGeom>
          <a:solidFill>
            <a:srgbClr val="ffdc99"/>
          </a:solidFill>
          <a:ln w="3168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574520" y="3573360"/>
            <a:ext cx="60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094120" y="41655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79240" y="3095640"/>
            <a:ext cx="119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rst IP pack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85360" y="3314880"/>
            <a:ext cx="136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ressed to M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1982880" y="3300480"/>
            <a:ext cx="52524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40080" y="2590920"/>
            <a:ext cx="1132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ress of 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94360" y="2789280"/>
            <a:ext cx="146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turned to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 flipV="1">
            <a:off x="1916280" y="2992320"/>
            <a:ext cx="745920" cy="1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719360" y="3497400"/>
            <a:ext cx="1666800" cy="1228680"/>
          </a:xfrm>
          <a:prstGeom prst="roundRect">
            <a:avLst>
              <a:gd name="adj" fmla="val 32560"/>
            </a:avLst>
          </a:prstGeom>
          <a:noFill/>
          <a:ln w="76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487600" y="3782880"/>
            <a:ext cx="109440" cy="174600"/>
          </a:xfrm>
          <a:custGeom>
            <a:avLst/>
            <a:gdLst/>
            <a:ahLst/>
            <a:rect l="l" t="t" r="r" b="b"/>
            <a:pathLst>
              <a:path w="69" h="110">
                <a:moveTo>
                  <a:pt x="27" y="0"/>
                </a:moveTo>
                <a:lnTo>
                  <a:pt x="69" y="0"/>
                </a:lnTo>
                <a:lnTo>
                  <a:pt x="41" y="110"/>
                </a:lnTo>
                <a:lnTo>
                  <a:pt x="0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530440" y="2751120"/>
            <a:ext cx="44640" cy="1009800"/>
          </a:xfrm>
          <a:custGeom>
            <a:avLst/>
            <a:gdLst/>
            <a:ahLst/>
            <a:rect l="l" t="t" r="r" b="b"/>
            <a:pathLst>
              <a:path w="28" h="636">
                <a:moveTo>
                  <a:pt x="28" y="0"/>
                </a:moveTo>
                <a:lnTo>
                  <a:pt x="0" y="304"/>
                </a:lnTo>
                <a:lnTo>
                  <a:pt x="0" y="63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617920" y="2728800"/>
            <a:ext cx="110880" cy="198720"/>
          </a:xfrm>
          <a:custGeom>
            <a:avLst/>
            <a:gdLst/>
            <a:ahLst/>
            <a:rect l="l" t="t" r="r" b="b"/>
            <a:pathLst>
              <a:path w="70" h="125">
                <a:moveTo>
                  <a:pt x="42" y="111"/>
                </a:moveTo>
                <a:lnTo>
                  <a:pt x="0" y="125"/>
                </a:lnTo>
                <a:lnTo>
                  <a:pt x="14" y="0"/>
                </a:lnTo>
                <a:lnTo>
                  <a:pt x="70" y="111"/>
                </a:lnTo>
                <a:lnTo>
                  <a:pt x="42" y="111"/>
                </a:lnTo>
                <a:close/>
              </a:path>
            </a:pathLst>
          </a:custGeom>
          <a:solidFill>
            <a:srgbClr val="00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617920" y="2927520"/>
            <a:ext cx="66600" cy="1074600"/>
          </a:xfrm>
          <a:custGeom>
            <a:avLst/>
            <a:gdLst/>
            <a:ahLst/>
            <a:rect l="l" t="t" r="r" b="b"/>
            <a:pathLst>
              <a:path w="42" h="677">
                <a:moveTo>
                  <a:pt x="0" y="677"/>
                </a:moveTo>
                <a:lnTo>
                  <a:pt x="42" y="345"/>
                </a:lnTo>
                <a:lnTo>
                  <a:pt x="4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617920" y="4243320"/>
            <a:ext cx="1440" cy="219240"/>
          </a:xfrm>
          <a:prstGeom prst="line">
            <a:avLst/>
          </a:prstGeom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552760" y="3979800"/>
            <a:ext cx="154080" cy="28584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552760" y="3979800"/>
            <a:ext cx="176040" cy="308160"/>
          </a:xfrm>
          <a:prstGeom prst="rect">
            <a:avLst/>
          </a:prstGeom>
          <a:noFill/>
          <a:ln w="3168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031160" y="3562200"/>
            <a:ext cx="196560" cy="111240"/>
          </a:xfrm>
          <a:custGeom>
            <a:avLst/>
            <a:gdLst/>
            <a:ahLst/>
            <a:rect l="l" t="t" r="r" b="b"/>
            <a:pathLst>
              <a:path w="124" h="70">
                <a:moveTo>
                  <a:pt x="0" y="28"/>
                </a:moveTo>
                <a:lnTo>
                  <a:pt x="0" y="0"/>
                </a:lnTo>
                <a:lnTo>
                  <a:pt x="124" y="14"/>
                </a:lnTo>
                <a:lnTo>
                  <a:pt x="13" y="7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706840" y="3629160"/>
            <a:ext cx="4324320" cy="460080"/>
          </a:xfrm>
          <a:custGeom>
            <a:avLst/>
            <a:gdLst/>
            <a:ahLst/>
            <a:rect l="l" t="t" r="r" b="b"/>
            <a:pathLst>
              <a:path w="2724" h="290">
                <a:moveTo>
                  <a:pt x="0" y="290"/>
                </a:moveTo>
                <a:lnTo>
                  <a:pt x="663" y="276"/>
                </a:lnTo>
                <a:lnTo>
                  <a:pt x="1355" y="221"/>
                </a:lnTo>
                <a:lnTo>
                  <a:pt x="2060" y="124"/>
                </a:lnTo>
                <a:lnTo>
                  <a:pt x="2724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412160" y="4083120"/>
            <a:ext cx="1145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rst IP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63560" y="4281480"/>
            <a:ext cx="125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unnelled to F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051680" y="3343320"/>
            <a:ext cx="198360" cy="109440"/>
          </a:xfrm>
          <a:custGeom>
            <a:avLst/>
            <a:gdLst/>
            <a:ahLst/>
            <a:rect l="l" t="t" r="r" b="b"/>
            <a:pathLst>
              <a:path w="125" h="69">
                <a:moveTo>
                  <a:pt x="0" y="42"/>
                </a:moveTo>
                <a:lnTo>
                  <a:pt x="14" y="0"/>
                </a:lnTo>
                <a:lnTo>
                  <a:pt x="125" y="56"/>
                </a:lnTo>
                <a:lnTo>
                  <a:pt x="0" y="69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706840" y="2575080"/>
            <a:ext cx="4344840" cy="834840"/>
          </a:xfrm>
          <a:custGeom>
            <a:avLst/>
            <a:gdLst/>
            <a:ahLst/>
            <a:rect l="l" t="t" r="r" b="b"/>
            <a:pathLst>
              <a:path w="2737" h="526">
                <a:moveTo>
                  <a:pt x="0" y="0"/>
                </a:moveTo>
                <a:lnTo>
                  <a:pt x="663" y="56"/>
                </a:lnTo>
                <a:lnTo>
                  <a:pt x="1369" y="194"/>
                </a:lnTo>
                <a:lnTo>
                  <a:pt x="2737" y="52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949560" y="2205000"/>
            <a:ext cx="18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equent IP 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923640" y="2403360"/>
            <a:ext cx="125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unnelled to F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706840" y="2509920"/>
            <a:ext cx="4586040" cy="877680"/>
          </a:xfrm>
          <a:custGeom>
            <a:avLst/>
            <a:gdLst/>
            <a:ahLst/>
            <a:rect l="l" t="t" r="r" b="b"/>
            <a:pathLst>
              <a:path w="2889" h="553">
                <a:moveTo>
                  <a:pt x="0" y="0"/>
                </a:moveTo>
                <a:lnTo>
                  <a:pt x="705" y="69"/>
                </a:lnTo>
                <a:lnTo>
                  <a:pt x="1465" y="221"/>
                </a:lnTo>
                <a:lnTo>
                  <a:pt x="2889" y="5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662200" y="2619360"/>
            <a:ext cx="4587840" cy="878040"/>
          </a:xfrm>
          <a:custGeom>
            <a:avLst/>
            <a:gdLst/>
            <a:ahLst/>
            <a:rect l="l" t="t" r="r" b="b"/>
            <a:pathLst>
              <a:path w="2890" h="553">
                <a:moveTo>
                  <a:pt x="0" y="0"/>
                </a:moveTo>
                <a:lnTo>
                  <a:pt x="705" y="69"/>
                </a:lnTo>
                <a:lnTo>
                  <a:pt x="1466" y="221"/>
                </a:lnTo>
                <a:lnTo>
                  <a:pt x="2890" y="5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706840" y="3629160"/>
            <a:ext cx="4565520" cy="527040"/>
          </a:xfrm>
          <a:custGeom>
            <a:avLst/>
            <a:gdLst/>
            <a:ahLst/>
            <a:rect l="l" t="t" r="r" b="b"/>
            <a:pathLst>
              <a:path w="2876" h="332">
                <a:moveTo>
                  <a:pt x="0" y="332"/>
                </a:moveTo>
                <a:lnTo>
                  <a:pt x="705" y="304"/>
                </a:lnTo>
                <a:lnTo>
                  <a:pt x="1438" y="235"/>
                </a:lnTo>
                <a:lnTo>
                  <a:pt x="2184" y="138"/>
                </a:lnTo>
                <a:lnTo>
                  <a:pt x="287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706840" y="3497400"/>
            <a:ext cx="4565520" cy="527040"/>
          </a:xfrm>
          <a:custGeom>
            <a:avLst/>
            <a:gdLst/>
            <a:ahLst/>
            <a:rect l="l" t="t" r="r" b="b"/>
            <a:pathLst>
              <a:path w="2876" h="332">
                <a:moveTo>
                  <a:pt x="0" y="332"/>
                </a:moveTo>
                <a:lnTo>
                  <a:pt x="705" y="318"/>
                </a:lnTo>
                <a:lnTo>
                  <a:pt x="1438" y="249"/>
                </a:lnTo>
                <a:lnTo>
                  <a:pt x="2184" y="138"/>
                </a:lnTo>
                <a:lnTo>
                  <a:pt x="287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rewall configur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1"/>
          <a:stretch/>
        </p:blipFill>
        <p:spPr>
          <a:xfrm>
            <a:off x="2057400" y="1436760"/>
            <a:ext cx="548640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1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EEE 802 network standard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525760" y="2166840"/>
            <a:ext cx="270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184800" y="2166840"/>
            <a:ext cx="270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1262160" y="2139840"/>
            <a:ext cx="6552000" cy="2541600"/>
            <a:chOff x="1262160" y="2139840"/>
            <a:chExt cx="6552000" cy="2541600"/>
          </a:xfrm>
        </p:grpSpPr>
        <p:sp>
          <p:nvSpPr>
            <p:cNvPr id="1227" name=""/>
            <p:cNvSpPr/>
            <p:nvPr/>
          </p:nvSpPr>
          <p:spPr>
            <a:xfrm>
              <a:off x="1302120" y="2235240"/>
              <a:ext cx="1072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IEEE No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565360" y="2235240"/>
              <a:ext cx="512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Tit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225120" y="2235240"/>
              <a:ext cx="1114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Times New Roman"/>
                </a:rPr>
                <a:t>Refere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262160" y="2139840"/>
              <a:ext cx="123660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525760" y="2139840"/>
              <a:ext cx="144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552760" y="2139840"/>
              <a:ext cx="360504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184800" y="2139840"/>
              <a:ext cx="180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211800" y="2139840"/>
              <a:ext cx="158760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525760" y="2166840"/>
              <a:ext cx="2700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84800" y="2166840"/>
              <a:ext cx="2700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362960" y="2716200"/>
              <a:ext cx="631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802.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562480" y="2716200"/>
              <a:ext cx="3614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CSMA/CD Networks (Ethernet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246000" y="2716200"/>
              <a:ext cx="1546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[IEEE 1985a]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262160" y="2570040"/>
              <a:ext cx="123660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525760" y="2597040"/>
              <a:ext cx="27000" cy="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525760" y="2570040"/>
              <a:ext cx="144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552760" y="2570040"/>
              <a:ext cx="360504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184800" y="2597040"/>
              <a:ext cx="27000" cy="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184800" y="2570040"/>
              <a:ext cx="180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211800" y="2570040"/>
              <a:ext cx="158760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525760" y="2597040"/>
              <a:ext cx="2700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184800" y="2597040"/>
              <a:ext cx="2700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362960" y="3121200"/>
              <a:ext cx="631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802.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576160" y="3121200"/>
              <a:ext cx="23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Token Bus Network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251400" y="3121200"/>
              <a:ext cx="156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[IEEE 1985b]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525760" y="3000240"/>
              <a:ext cx="2700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184800" y="3000240"/>
              <a:ext cx="2700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362960" y="3524400"/>
              <a:ext cx="631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802.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588040" y="3524400"/>
              <a:ext cx="2484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Token Ring Network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246000" y="3524400"/>
              <a:ext cx="1546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[IEEE 1985c]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525760" y="3403440"/>
              <a:ext cx="27000" cy="40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184800" y="3403440"/>
              <a:ext cx="27000" cy="40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362960" y="3927600"/>
              <a:ext cx="631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802.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554560" y="3927600"/>
              <a:ext cx="3227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Metropolitan Area Network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253920" y="3927600"/>
              <a:ext cx="1422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[IEEE 1994]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25760" y="3808440"/>
              <a:ext cx="2700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184800" y="3808440"/>
              <a:ext cx="2700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360080" y="4330800"/>
              <a:ext cx="771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566800" y="4330800"/>
              <a:ext cx="3518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Wireless Local Area Network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253920" y="4330800"/>
              <a:ext cx="1422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[IEEE 1999]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262160" y="4653000"/>
              <a:ext cx="123660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525760" y="4211640"/>
              <a:ext cx="2700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525760" y="4680000"/>
              <a:ext cx="2700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525760" y="4653000"/>
              <a:ext cx="144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552760" y="4653000"/>
              <a:ext cx="360504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84800" y="4211640"/>
              <a:ext cx="2700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84800" y="4680000"/>
              <a:ext cx="2700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184800" y="4653000"/>
              <a:ext cx="180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11800" y="4653000"/>
              <a:ext cx="158760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2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Wireless LAN configur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609480" y="1512720"/>
            <a:ext cx="77724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3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ATM protocol lay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79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38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4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ATM cell layou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81" name="" descr=""/>
          <p:cNvPicPr/>
          <p:nvPr/>
        </p:nvPicPr>
        <p:blipFill>
          <a:blip r:embed="rId1"/>
          <a:stretch/>
        </p:blipFill>
        <p:spPr>
          <a:xfrm>
            <a:off x="762120" y="2949480"/>
            <a:ext cx="784836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5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Switching virtual paths in an ATM network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83" name="" descr=""/>
          <p:cNvPicPr/>
          <p:nvPr/>
        </p:nvPicPr>
        <p:blipFill>
          <a:blip r:embed="rId1"/>
          <a:stretch/>
        </p:blipFill>
        <p:spPr>
          <a:xfrm>
            <a:off x="685800" y="1781280"/>
            <a:ext cx="77724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2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Conceptual layering of protocol softwa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543040"/>
            <a:ext cx="7873920" cy="3016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543040"/>
            <a:ext cx="7899480" cy="327240"/>
          </a:xfrm>
          <a:prstGeom prst="rect">
            <a:avLst/>
          </a:prstGeom>
          <a:noFill/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894040"/>
            <a:ext cx="7873920" cy="3268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894040"/>
            <a:ext cx="7899480" cy="352440"/>
          </a:xfrm>
          <a:prstGeom prst="rect">
            <a:avLst/>
          </a:prstGeom>
          <a:noFill/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297240"/>
            <a:ext cx="7873920" cy="3268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97240"/>
            <a:ext cx="7899480" cy="352440"/>
          </a:xfrm>
          <a:prstGeom prst="rect">
            <a:avLst/>
          </a:prstGeom>
          <a:noFill/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675240"/>
            <a:ext cx="7873920" cy="301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3675240"/>
            <a:ext cx="7899480" cy="326880"/>
          </a:xfrm>
          <a:prstGeom prst="rect">
            <a:avLst/>
          </a:prstGeom>
          <a:noFill/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4076640"/>
            <a:ext cx="7873920" cy="3016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076640"/>
            <a:ext cx="7899480" cy="327240"/>
          </a:xfrm>
          <a:prstGeom prst="rect">
            <a:avLst/>
          </a:prstGeom>
          <a:noFill/>
          <a:ln w="255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00240" y="4076640"/>
            <a:ext cx="4503960" cy="301680"/>
          </a:xfrm>
          <a:prstGeom prst="ellipse">
            <a:avLst/>
          </a:prstGeom>
          <a:solidFill>
            <a:srgbClr val="d9aa73"/>
          </a:solidFill>
          <a:ln w="2556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9680" y="4152960"/>
            <a:ext cx="5181480" cy="5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9400" y="4051440"/>
            <a:ext cx="376200" cy="252360"/>
          </a:xfrm>
          <a:custGeom>
            <a:avLst/>
            <a:gdLst/>
            <a:ahLst/>
            <a:rect l="l" t="t" r="r" b="b"/>
            <a:pathLst>
              <a:path w="237" h="159">
                <a:moveTo>
                  <a:pt x="237" y="80"/>
                </a:moveTo>
                <a:lnTo>
                  <a:pt x="0" y="159"/>
                </a:lnTo>
                <a:lnTo>
                  <a:pt x="127" y="80"/>
                </a:lnTo>
                <a:lnTo>
                  <a:pt x="0" y="0"/>
                </a:lnTo>
                <a:lnTo>
                  <a:pt x="222" y="80"/>
                </a:lnTo>
                <a:lnTo>
                  <a:pt x="237" y="8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9680" y="4203720"/>
            <a:ext cx="2616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1440" y="262908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yer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1440" y="378612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y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11440" y="416412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y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70160" y="2517840"/>
            <a:ext cx="806400" cy="1936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88000" y="2025720"/>
            <a:ext cx="126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ssage s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68880" y="2000160"/>
            <a:ext cx="164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ssage rece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33560" y="4491000"/>
            <a:ext cx="1411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15880" y="4743360"/>
            <a:ext cx="72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45400" y="454176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81520" y="4541760"/>
            <a:ext cx="84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29400" y="2517840"/>
            <a:ext cx="804960" cy="1936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05600" y="2668680"/>
            <a:ext cx="5112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05600" y="4178160"/>
            <a:ext cx="5112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05600" y="2693880"/>
            <a:ext cx="51120" cy="148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56640" y="3373560"/>
            <a:ext cx="150840" cy="125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56640" y="4127400"/>
            <a:ext cx="150840" cy="12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56640" y="3749760"/>
            <a:ext cx="1508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56640" y="2970360"/>
            <a:ext cx="150840" cy="125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56640" y="2592360"/>
            <a:ext cx="150840" cy="125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51840" y="2239920"/>
            <a:ext cx="125280" cy="101520"/>
          </a:xfrm>
          <a:custGeom>
            <a:avLst/>
            <a:gdLst/>
            <a:ahLst/>
            <a:rect l="l" t="t" r="r" b="b"/>
            <a:pathLst>
              <a:path w="79" h="64">
                <a:moveTo>
                  <a:pt x="79" y="32"/>
                </a:moveTo>
                <a:lnTo>
                  <a:pt x="64" y="64"/>
                </a:lnTo>
                <a:lnTo>
                  <a:pt x="0" y="0"/>
                </a:lnTo>
                <a:lnTo>
                  <a:pt x="79" y="16"/>
                </a:lnTo>
                <a:lnTo>
                  <a:pt x="79" y="32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7377120" y="2290680"/>
            <a:ext cx="479520" cy="27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47800" y="2668680"/>
            <a:ext cx="5112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47800" y="4178160"/>
            <a:ext cx="5112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47800" y="2693880"/>
            <a:ext cx="51120" cy="148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7040" y="3397320"/>
            <a:ext cx="1526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7040" y="4152960"/>
            <a:ext cx="152640" cy="125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7040" y="3774960"/>
            <a:ext cx="152640" cy="12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97040" y="2995560"/>
            <a:ext cx="152640" cy="12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7040" y="2617920"/>
            <a:ext cx="152640" cy="125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49680" y="2467080"/>
            <a:ext cx="125280" cy="100080"/>
          </a:xfrm>
          <a:custGeom>
            <a:avLst/>
            <a:gdLst/>
            <a:ahLst/>
            <a:rect l="l" t="t" r="r" b="b"/>
            <a:pathLst>
              <a:path w="79" h="63">
                <a:moveTo>
                  <a:pt x="63" y="16"/>
                </a:moveTo>
                <a:lnTo>
                  <a:pt x="79" y="32"/>
                </a:lnTo>
                <a:lnTo>
                  <a:pt x="0" y="63"/>
                </a:lnTo>
                <a:lnTo>
                  <a:pt x="47" y="0"/>
                </a:lnTo>
                <a:lnTo>
                  <a:pt x="63" y="16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874600" y="2265480"/>
            <a:ext cx="352440" cy="22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30481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3429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3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Encapsulation as it is applied in layered protoco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2208240"/>
            <a:ext cx="815328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4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Protocol layers in the ISO Open Systems Interconnection (OSI) mode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807732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5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OSI protocol summar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68600" y="1900080"/>
            <a:ext cx="172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97840" y="1900080"/>
            <a:ext cx="190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80960" y="1579680"/>
            <a:ext cx="8306640" cy="4397400"/>
            <a:chOff x="480960" y="1579680"/>
            <a:chExt cx="8306640" cy="4397400"/>
          </a:xfrm>
        </p:grpSpPr>
        <p:sp>
          <p:nvSpPr>
            <p:cNvPr id="174" name=""/>
            <p:cNvSpPr/>
            <p:nvPr/>
          </p:nvSpPr>
          <p:spPr>
            <a:xfrm>
              <a:off x="1668600" y="1617840"/>
              <a:ext cx="1728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99360" y="1617840"/>
              <a:ext cx="1908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68600" y="5975280"/>
              <a:ext cx="17280" cy="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99360" y="5975280"/>
              <a:ext cx="19080" cy="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4520" y="1673280"/>
              <a:ext cx="41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92360" y="1673280"/>
              <a:ext cx="84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24920" y="1673280"/>
              <a:ext cx="69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68600" y="1579680"/>
              <a:ext cx="17280" cy="2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99360" y="1579680"/>
              <a:ext cx="19080" cy="2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1280" y="1909800"/>
              <a:ext cx="84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77240" y="1909800"/>
              <a:ext cx="511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otocols that are designed to meet the communication requirements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80120" y="2097000"/>
              <a:ext cx="440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pecific applications, often defining the interface to a servic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48080" y="2097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86240" y="2097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26000" y="1928880"/>
              <a:ext cx="53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HTTP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16320" y="1909800"/>
              <a:ext cx="329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56520" y="192888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49400" y="1928880"/>
              <a:ext cx="50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MTP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26360" y="2116080"/>
              <a:ext cx="100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ORBA II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68600" y="1900080"/>
              <a:ext cx="1728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1900080"/>
              <a:ext cx="1908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1640" y="2343240"/>
              <a:ext cx="88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es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76520" y="2343240"/>
              <a:ext cx="5004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otocols at this level transmit data in a network representation that 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75080" y="2532240"/>
              <a:ext cx="546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ndependent of the representations used in individual computers, which m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78680" y="2720880"/>
              <a:ext cx="4347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iffer. Encryption is also performed in this layer, if require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23120" y="2343240"/>
              <a:ext cx="108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ecure Sock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25640" y="2532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83240" y="2532240"/>
              <a:ext cx="1404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SL),CORBA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26000" y="272088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e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68600" y="2333520"/>
              <a:ext cx="17280" cy="60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99360" y="2333520"/>
              <a:ext cx="19080" cy="60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3080" y="2946240"/>
              <a:ext cx="54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76520" y="2946240"/>
              <a:ext cx="5275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t this level reliability and adaptation are performed, such as detection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87680" y="3135240"/>
              <a:ext cx="2307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failures and automatic recover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68600" y="2938320"/>
              <a:ext cx="1728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99360" y="2938320"/>
              <a:ext cx="1908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2360" y="3362400"/>
              <a:ext cx="69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80480" y="3362400"/>
              <a:ext cx="546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his is the lowest level at which messages (rather than packets) are handle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81560" y="3551400"/>
              <a:ext cx="506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essages are addressed to communication ports attached to processes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76160" y="3738600"/>
              <a:ext cx="4955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otocols in this layer may be connection-oriented or connectionles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26000" y="336240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CP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23080" y="336240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68600" y="3352680"/>
              <a:ext cx="17280" cy="6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99360" y="3352680"/>
              <a:ext cx="19080" cy="6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3800" y="3965400"/>
              <a:ext cx="62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84080" y="3965400"/>
              <a:ext cx="540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ransfers data packets between computers in a specific network. In a W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4000" y="4154400"/>
              <a:ext cx="526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or an internetwork this involves the generation of a route passing throu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83720" y="4343400"/>
              <a:ext cx="338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outers. In a single LAN no routing is require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25640" y="39654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P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69720" y="3965400"/>
              <a:ext cx="90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TM virt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23480" y="4154400"/>
              <a:ext cx="52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ircui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68600" y="3956040"/>
              <a:ext cx="17280" cy="60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99360" y="3956040"/>
              <a:ext cx="19080" cy="60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3080" y="4568760"/>
              <a:ext cx="66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ata 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78320" y="4568760"/>
              <a:ext cx="513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esponsible for transmission of packets between nodes that are direct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80840" y="4757760"/>
              <a:ext cx="521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onnected by a physical link. In a WAN transmission is between pairs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79760" y="4946760"/>
              <a:ext cx="559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outers or between routers and hosts. In a LAN it is between any pair of host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24560" y="4568760"/>
              <a:ext cx="110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thernet MAC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23840" y="4757760"/>
              <a:ext cx="1334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TM cell transfer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24920" y="49467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P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68600" y="4560840"/>
              <a:ext cx="17280" cy="6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99360" y="4560840"/>
              <a:ext cx="19080" cy="6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2720" y="5173560"/>
              <a:ext cx="60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79040" y="5173560"/>
              <a:ext cx="534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he circuits and hardware that drive the network. It transmits sequences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72200" y="5361120"/>
              <a:ext cx="552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binary data by analogue signalling, using amplitude or frequency modu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73640" y="5549760"/>
              <a:ext cx="539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of electrical signals (on cable circuits), light signals (on fibre optic circuit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78680" y="5738760"/>
              <a:ext cx="481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or other electromagnetic signals (on radio and microwave circuits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21680" y="5173560"/>
              <a:ext cx="142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thernet base- 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22040" y="5361120"/>
              <a:ext cx="799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ignalling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75240" y="536112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SD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68600" y="5164200"/>
              <a:ext cx="1728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99360" y="5164200"/>
              <a:ext cx="1908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5640" y="5977080"/>
              <a:ext cx="814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8880" y="1596960"/>
              <a:ext cx="814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0960" y="1898640"/>
              <a:ext cx="814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nternetwork lay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9246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7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Routing in a wide area network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373400" y="1708200"/>
            <a:ext cx="6640200" cy="4143240"/>
            <a:chOff x="1373400" y="1708200"/>
            <a:chExt cx="6640200" cy="4143240"/>
          </a:xfrm>
        </p:grpSpPr>
        <p:sp>
          <p:nvSpPr>
            <p:cNvPr id="253" name=""/>
            <p:cNvSpPr/>
            <p:nvPr/>
          </p:nvSpPr>
          <p:spPr>
            <a:xfrm flipH="1" flipV="1">
              <a:off x="2990880" y="2868480"/>
              <a:ext cx="218880" cy="16020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59200" y="2868480"/>
              <a:ext cx="3547800" cy="879480"/>
            </a:xfrm>
            <a:custGeom>
              <a:avLst/>
              <a:gdLst/>
              <a:ahLst/>
              <a:rect l="l" t="t" r="r" b="b"/>
              <a:pathLst>
                <a:path w="2235" h="554">
                  <a:moveTo>
                    <a:pt x="0" y="0"/>
                  </a:moveTo>
                  <a:lnTo>
                    <a:pt x="1721" y="0"/>
                  </a:lnTo>
                  <a:lnTo>
                    <a:pt x="2235" y="554"/>
                  </a:lnTo>
                </a:path>
              </a:pathLst>
            </a:custGeom>
            <a:noFill/>
            <a:ln w="46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79880" y="4406760"/>
              <a:ext cx="2071440" cy="18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219640" y="2838600"/>
              <a:ext cx="471600" cy="16318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5219640" y="3747600"/>
              <a:ext cx="1319400" cy="6908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79880" y="4438800"/>
              <a:ext cx="61920" cy="97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87960" y="4406760"/>
              <a:ext cx="63360" cy="911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59200" y="2209680"/>
              <a:ext cx="63360" cy="56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59560" y="2084400"/>
              <a:ext cx="633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07000" y="3654360"/>
              <a:ext cx="69084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671480" y="2084400"/>
              <a:ext cx="911520" cy="11620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41600" y="4187880"/>
              <a:ext cx="1066680" cy="12240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5597640" y="4563720"/>
              <a:ext cx="627120" cy="15732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445080" y="3998880"/>
              <a:ext cx="1800" cy="6285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02240" y="2681280"/>
              <a:ext cx="407880" cy="439920"/>
            </a:xfrm>
            <a:prstGeom prst="ellipse">
              <a:avLst/>
            </a:prstGeom>
            <a:solidFill>
              <a:srgbClr val="d9aa73"/>
            </a:solidFill>
            <a:ln w="460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22560" y="4219560"/>
              <a:ext cx="439920" cy="438120"/>
            </a:xfrm>
            <a:prstGeom prst="ellipse">
              <a:avLst/>
            </a:prstGeom>
            <a:solidFill>
              <a:srgbClr val="d9aa73"/>
            </a:solidFill>
            <a:ln w="460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62680" y="4219560"/>
              <a:ext cx="407880" cy="438120"/>
            </a:xfrm>
            <a:prstGeom prst="ellipse">
              <a:avLst/>
            </a:prstGeom>
            <a:solidFill>
              <a:srgbClr val="d9aa73"/>
            </a:solidFill>
            <a:ln w="460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88120" y="3497400"/>
              <a:ext cx="439560" cy="439560"/>
            </a:xfrm>
            <a:prstGeom prst="ellipse">
              <a:avLst/>
            </a:prstGeom>
            <a:solidFill>
              <a:srgbClr val="d9aa73"/>
            </a:solidFill>
            <a:ln w="460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76600" y="1708200"/>
              <a:ext cx="565200" cy="5652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76600" y="1708200"/>
              <a:ext cx="596880" cy="595440"/>
            </a:xfrm>
            <a:prstGeom prst="rect">
              <a:avLst/>
            </a:prstGeom>
            <a:noFill/>
            <a:ln w="460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1640" y="2681280"/>
              <a:ext cx="438120" cy="439920"/>
            </a:xfrm>
            <a:prstGeom prst="ellipse">
              <a:avLst/>
            </a:prstGeom>
            <a:solidFill>
              <a:srgbClr val="d9aa73"/>
            </a:solidFill>
            <a:ln w="460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374480" y="3279600"/>
              <a:ext cx="653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o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45080" y="3405240"/>
              <a:ext cx="596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in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74840" y="3562200"/>
              <a:ext cx="89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or loc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73400" y="3844800"/>
              <a:ext cx="1021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30400" y="274644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39560" y="42829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170320" y="42829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01880" y="5097600"/>
              <a:ext cx="879480" cy="753840"/>
            </a:xfrm>
            <a:custGeom>
              <a:avLst/>
              <a:gdLst/>
              <a:ahLst/>
              <a:rect l="l" t="t" r="r" b="b"/>
              <a:pathLst>
                <a:path w="554" h="475">
                  <a:moveTo>
                    <a:pt x="20" y="119"/>
                  </a:moveTo>
                  <a:lnTo>
                    <a:pt x="40" y="79"/>
                  </a:lnTo>
                  <a:lnTo>
                    <a:pt x="60" y="59"/>
                  </a:lnTo>
                  <a:lnTo>
                    <a:pt x="99" y="40"/>
                  </a:lnTo>
                  <a:lnTo>
                    <a:pt x="119" y="40"/>
                  </a:lnTo>
                  <a:lnTo>
                    <a:pt x="139" y="40"/>
                  </a:lnTo>
                  <a:lnTo>
                    <a:pt x="178" y="40"/>
                  </a:lnTo>
                  <a:lnTo>
                    <a:pt x="218" y="40"/>
                  </a:lnTo>
                  <a:lnTo>
                    <a:pt x="257" y="40"/>
                  </a:lnTo>
                  <a:lnTo>
                    <a:pt x="297" y="40"/>
                  </a:lnTo>
                  <a:lnTo>
                    <a:pt x="317" y="20"/>
                  </a:lnTo>
                  <a:lnTo>
                    <a:pt x="337" y="20"/>
                  </a:lnTo>
                  <a:lnTo>
                    <a:pt x="376" y="0"/>
                  </a:lnTo>
                  <a:lnTo>
                    <a:pt x="396" y="0"/>
                  </a:lnTo>
                  <a:lnTo>
                    <a:pt x="435" y="0"/>
                  </a:lnTo>
                  <a:lnTo>
                    <a:pt x="455" y="20"/>
                  </a:lnTo>
                  <a:lnTo>
                    <a:pt x="475" y="40"/>
                  </a:lnTo>
                  <a:lnTo>
                    <a:pt x="495" y="40"/>
                  </a:lnTo>
                  <a:lnTo>
                    <a:pt x="515" y="79"/>
                  </a:lnTo>
                  <a:lnTo>
                    <a:pt x="554" y="158"/>
                  </a:lnTo>
                  <a:lnTo>
                    <a:pt x="554" y="237"/>
                  </a:lnTo>
                  <a:lnTo>
                    <a:pt x="554" y="297"/>
                  </a:lnTo>
                  <a:lnTo>
                    <a:pt x="554" y="336"/>
                  </a:lnTo>
                  <a:lnTo>
                    <a:pt x="534" y="415"/>
                  </a:lnTo>
                  <a:lnTo>
                    <a:pt x="515" y="455"/>
                  </a:lnTo>
                  <a:lnTo>
                    <a:pt x="475" y="475"/>
                  </a:lnTo>
                  <a:lnTo>
                    <a:pt x="435" y="475"/>
                  </a:lnTo>
                  <a:lnTo>
                    <a:pt x="396" y="455"/>
                  </a:lnTo>
                  <a:lnTo>
                    <a:pt x="356" y="455"/>
                  </a:lnTo>
                  <a:lnTo>
                    <a:pt x="317" y="435"/>
                  </a:lnTo>
                  <a:lnTo>
                    <a:pt x="277" y="435"/>
                  </a:lnTo>
                  <a:lnTo>
                    <a:pt x="238" y="435"/>
                  </a:lnTo>
                  <a:lnTo>
                    <a:pt x="218" y="455"/>
                  </a:lnTo>
                  <a:lnTo>
                    <a:pt x="198" y="455"/>
                  </a:lnTo>
                  <a:lnTo>
                    <a:pt x="159" y="455"/>
                  </a:lnTo>
                  <a:lnTo>
                    <a:pt x="139" y="475"/>
                  </a:lnTo>
                  <a:lnTo>
                    <a:pt x="119" y="475"/>
                  </a:lnTo>
                  <a:lnTo>
                    <a:pt x="79" y="475"/>
                  </a:lnTo>
                  <a:lnTo>
                    <a:pt x="79" y="455"/>
                  </a:lnTo>
                  <a:lnTo>
                    <a:pt x="60" y="435"/>
                  </a:lnTo>
                  <a:lnTo>
                    <a:pt x="40" y="435"/>
                  </a:lnTo>
                  <a:lnTo>
                    <a:pt x="40" y="415"/>
                  </a:lnTo>
                  <a:lnTo>
                    <a:pt x="20" y="376"/>
                  </a:lnTo>
                  <a:lnTo>
                    <a:pt x="20" y="317"/>
                  </a:lnTo>
                  <a:lnTo>
                    <a:pt x="0" y="277"/>
                  </a:lnTo>
                  <a:lnTo>
                    <a:pt x="0" y="237"/>
                  </a:lnTo>
                  <a:lnTo>
                    <a:pt x="0" y="198"/>
                  </a:lnTo>
                  <a:lnTo>
                    <a:pt x="20" y="139"/>
                  </a:lnTo>
                  <a:lnTo>
                    <a:pt x="20" y="119"/>
                  </a:lnTo>
                  <a:lnTo>
                    <a:pt x="20" y="119"/>
                  </a:lnTo>
                  <a:close/>
                </a:path>
              </a:pathLst>
            </a:custGeom>
            <a:solidFill>
              <a:srgbClr val="ffdc99"/>
            </a:solidFill>
            <a:ln w="4608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35920" y="3308400"/>
              <a:ext cx="877680" cy="753840"/>
            </a:xfrm>
            <a:custGeom>
              <a:avLst/>
              <a:gdLst/>
              <a:ahLst/>
              <a:rect l="l" t="t" r="r" b="b"/>
              <a:pathLst>
                <a:path w="553" h="475">
                  <a:moveTo>
                    <a:pt x="0" y="99"/>
                  </a:moveTo>
                  <a:lnTo>
                    <a:pt x="19" y="79"/>
                  </a:lnTo>
                  <a:lnTo>
                    <a:pt x="39" y="40"/>
                  </a:lnTo>
                  <a:lnTo>
                    <a:pt x="79" y="20"/>
                  </a:lnTo>
                  <a:lnTo>
                    <a:pt x="99" y="40"/>
                  </a:lnTo>
                  <a:lnTo>
                    <a:pt x="118" y="20"/>
                  </a:lnTo>
                  <a:lnTo>
                    <a:pt x="158" y="20"/>
                  </a:lnTo>
                  <a:lnTo>
                    <a:pt x="197" y="40"/>
                  </a:lnTo>
                  <a:lnTo>
                    <a:pt x="237" y="40"/>
                  </a:lnTo>
                  <a:lnTo>
                    <a:pt x="277" y="40"/>
                  </a:lnTo>
                  <a:lnTo>
                    <a:pt x="296" y="20"/>
                  </a:lnTo>
                  <a:lnTo>
                    <a:pt x="316" y="0"/>
                  </a:lnTo>
                  <a:lnTo>
                    <a:pt x="356" y="0"/>
                  </a:lnTo>
                  <a:lnTo>
                    <a:pt x="395" y="0"/>
                  </a:lnTo>
                  <a:lnTo>
                    <a:pt x="415" y="0"/>
                  </a:lnTo>
                  <a:lnTo>
                    <a:pt x="435" y="20"/>
                  </a:lnTo>
                  <a:lnTo>
                    <a:pt x="455" y="20"/>
                  </a:lnTo>
                  <a:lnTo>
                    <a:pt x="474" y="40"/>
                  </a:lnTo>
                  <a:lnTo>
                    <a:pt x="514" y="79"/>
                  </a:lnTo>
                  <a:lnTo>
                    <a:pt x="534" y="139"/>
                  </a:lnTo>
                  <a:lnTo>
                    <a:pt x="534" y="237"/>
                  </a:lnTo>
                  <a:lnTo>
                    <a:pt x="553" y="277"/>
                  </a:lnTo>
                  <a:lnTo>
                    <a:pt x="534" y="336"/>
                  </a:lnTo>
                  <a:lnTo>
                    <a:pt x="534" y="415"/>
                  </a:lnTo>
                  <a:lnTo>
                    <a:pt x="494" y="455"/>
                  </a:lnTo>
                  <a:lnTo>
                    <a:pt x="455" y="475"/>
                  </a:lnTo>
                  <a:lnTo>
                    <a:pt x="415" y="455"/>
                  </a:lnTo>
                  <a:lnTo>
                    <a:pt x="375" y="455"/>
                  </a:lnTo>
                  <a:lnTo>
                    <a:pt x="336" y="455"/>
                  </a:lnTo>
                  <a:lnTo>
                    <a:pt x="296" y="435"/>
                  </a:lnTo>
                  <a:lnTo>
                    <a:pt x="277" y="435"/>
                  </a:lnTo>
                  <a:lnTo>
                    <a:pt x="237" y="435"/>
                  </a:lnTo>
                  <a:lnTo>
                    <a:pt x="197" y="435"/>
                  </a:lnTo>
                  <a:lnTo>
                    <a:pt x="178" y="455"/>
                  </a:lnTo>
                  <a:lnTo>
                    <a:pt x="158" y="455"/>
                  </a:lnTo>
                  <a:lnTo>
                    <a:pt x="118" y="455"/>
                  </a:lnTo>
                  <a:lnTo>
                    <a:pt x="99" y="455"/>
                  </a:lnTo>
                  <a:lnTo>
                    <a:pt x="79" y="455"/>
                  </a:lnTo>
                  <a:lnTo>
                    <a:pt x="59" y="455"/>
                  </a:lnTo>
                  <a:lnTo>
                    <a:pt x="39" y="435"/>
                  </a:lnTo>
                  <a:lnTo>
                    <a:pt x="39" y="435"/>
                  </a:lnTo>
                  <a:lnTo>
                    <a:pt x="19" y="415"/>
                  </a:lnTo>
                  <a:lnTo>
                    <a:pt x="19" y="376"/>
                  </a:lnTo>
                  <a:lnTo>
                    <a:pt x="0" y="317"/>
                  </a:lnTo>
                  <a:lnTo>
                    <a:pt x="0" y="277"/>
                  </a:lnTo>
                  <a:lnTo>
                    <a:pt x="0" y="237"/>
                  </a:lnTo>
                  <a:lnTo>
                    <a:pt x="0" y="178"/>
                  </a:lnTo>
                  <a:lnTo>
                    <a:pt x="0" y="139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dc99"/>
            </a:solidFill>
            <a:ln w="4608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11760" y="5065560"/>
              <a:ext cx="879480" cy="785880"/>
            </a:xfrm>
            <a:custGeom>
              <a:avLst/>
              <a:gdLst/>
              <a:ahLst/>
              <a:rect l="l" t="t" r="r" b="b"/>
              <a:pathLst>
                <a:path w="554" h="495">
                  <a:moveTo>
                    <a:pt x="20" y="119"/>
                  </a:moveTo>
                  <a:lnTo>
                    <a:pt x="40" y="99"/>
                  </a:lnTo>
                  <a:lnTo>
                    <a:pt x="59" y="60"/>
                  </a:lnTo>
                  <a:lnTo>
                    <a:pt x="99" y="40"/>
                  </a:lnTo>
                  <a:lnTo>
                    <a:pt x="119" y="40"/>
                  </a:lnTo>
                  <a:lnTo>
                    <a:pt x="139" y="40"/>
                  </a:lnTo>
                  <a:lnTo>
                    <a:pt x="178" y="40"/>
                  </a:lnTo>
                  <a:lnTo>
                    <a:pt x="218" y="40"/>
                  </a:lnTo>
                  <a:lnTo>
                    <a:pt x="257" y="60"/>
                  </a:lnTo>
                  <a:lnTo>
                    <a:pt x="297" y="60"/>
                  </a:lnTo>
                  <a:lnTo>
                    <a:pt x="317" y="40"/>
                  </a:lnTo>
                  <a:lnTo>
                    <a:pt x="336" y="20"/>
                  </a:lnTo>
                  <a:lnTo>
                    <a:pt x="376" y="0"/>
                  </a:lnTo>
                  <a:lnTo>
                    <a:pt x="396" y="0"/>
                  </a:lnTo>
                  <a:lnTo>
                    <a:pt x="435" y="20"/>
                  </a:lnTo>
                  <a:lnTo>
                    <a:pt x="455" y="20"/>
                  </a:lnTo>
                  <a:lnTo>
                    <a:pt x="475" y="40"/>
                  </a:lnTo>
                  <a:lnTo>
                    <a:pt x="495" y="60"/>
                  </a:lnTo>
                  <a:lnTo>
                    <a:pt x="514" y="99"/>
                  </a:lnTo>
                  <a:lnTo>
                    <a:pt x="554" y="159"/>
                  </a:lnTo>
                  <a:lnTo>
                    <a:pt x="554" y="238"/>
                  </a:lnTo>
                  <a:lnTo>
                    <a:pt x="554" y="297"/>
                  </a:lnTo>
                  <a:lnTo>
                    <a:pt x="554" y="356"/>
                  </a:lnTo>
                  <a:lnTo>
                    <a:pt x="534" y="435"/>
                  </a:lnTo>
                  <a:lnTo>
                    <a:pt x="514" y="475"/>
                  </a:lnTo>
                  <a:lnTo>
                    <a:pt x="475" y="495"/>
                  </a:lnTo>
                  <a:lnTo>
                    <a:pt x="435" y="475"/>
                  </a:lnTo>
                  <a:lnTo>
                    <a:pt x="396" y="475"/>
                  </a:lnTo>
                  <a:lnTo>
                    <a:pt x="356" y="455"/>
                  </a:lnTo>
                  <a:lnTo>
                    <a:pt x="317" y="455"/>
                  </a:lnTo>
                  <a:lnTo>
                    <a:pt x="277" y="455"/>
                  </a:lnTo>
                  <a:lnTo>
                    <a:pt x="237" y="455"/>
                  </a:lnTo>
                  <a:lnTo>
                    <a:pt x="218" y="455"/>
                  </a:lnTo>
                  <a:lnTo>
                    <a:pt x="198" y="455"/>
                  </a:lnTo>
                  <a:lnTo>
                    <a:pt x="158" y="475"/>
                  </a:lnTo>
                  <a:lnTo>
                    <a:pt x="139" y="475"/>
                  </a:lnTo>
                  <a:lnTo>
                    <a:pt x="119" y="475"/>
                  </a:lnTo>
                  <a:lnTo>
                    <a:pt x="79" y="475"/>
                  </a:lnTo>
                  <a:lnTo>
                    <a:pt x="79" y="455"/>
                  </a:lnTo>
                  <a:lnTo>
                    <a:pt x="59" y="455"/>
                  </a:lnTo>
                  <a:lnTo>
                    <a:pt x="40" y="435"/>
                  </a:lnTo>
                  <a:lnTo>
                    <a:pt x="40" y="416"/>
                  </a:lnTo>
                  <a:lnTo>
                    <a:pt x="20" y="376"/>
                  </a:lnTo>
                  <a:lnTo>
                    <a:pt x="20" y="337"/>
                  </a:lnTo>
                  <a:lnTo>
                    <a:pt x="0" y="277"/>
                  </a:lnTo>
                  <a:lnTo>
                    <a:pt x="0" y="238"/>
                  </a:lnTo>
                  <a:lnTo>
                    <a:pt x="0" y="198"/>
                  </a:lnTo>
                  <a:lnTo>
                    <a:pt x="20" y="139"/>
                  </a:lnTo>
                  <a:lnTo>
                    <a:pt x="20" y="119"/>
                  </a:lnTo>
                  <a:lnTo>
                    <a:pt x="20" y="119"/>
                  </a:lnTo>
                  <a:close/>
                </a:path>
              </a:pathLst>
            </a:custGeom>
            <a:solidFill>
              <a:srgbClr val="ffdc99"/>
            </a:solidFill>
            <a:ln w="4608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76960" y="1708200"/>
              <a:ext cx="565200" cy="5652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76960" y="1708200"/>
              <a:ext cx="596880" cy="595440"/>
            </a:xfrm>
            <a:prstGeom prst="rect">
              <a:avLst/>
            </a:prstGeom>
            <a:noFill/>
            <a:ln w="460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30760" y="274644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05120" y="35924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21280" y="2711520"/>
              <a:ext cx="345960" cy="345960"/>
            </a:xfrm>
            <a:prstGeom prst="ellipse">
              <a:avLst/>
            </a:prstGeom>
            <a:solidFill>
              <a:srgbClr val="ffffff"/>
            </a:solidFill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19200" y="2746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10120" y="3121200"/>
              <a:ext cx="346320" cy="376200"/>
            </a:xfrm>
            <a:prstGeom prst="ellipse">
              <a:avLst/>
            </a:prstGeom>
            <a:solidFill>
              <a:srgbClr val="ffffff"/>
            </a:solidFill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19200" y="3154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22920" y="3936960"/>
              <a:ext cx="344520" cy="344520"/>
            </a:xfrm>
            <a:prstGeom prst="ellipse">
              <a:avLst/>
            </a:prstGeom>
            <a:solidFill>
              <a:srgbClr val="ffffff"/>
            </a:solidFill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32000" y="3970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51320" y="3465360"/>
              <a:ext cx="376200" cy="346320"/>
            </a:xfrm>
            <a:prstGeom prst="ellipse">
              <a:avLst/>
            </a:prstGeom>
            <a:solidFill>
              <a:srgbClr val="ffffff"/>
            </a:solidFill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70120" y="34988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27520" y="3497400"/>
              <a:ext cx="345960" cy="376200"/>
            </a:xfrm>
            <a:prstGeom prst="ellipse">
              <a:avLst/>
            </a:prstGeom>
            <a:solidFill>
              <a:srgbClr val="ffffff"/>
            </a:solidFill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26880" y="3530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57560" y="4249800"/>
              <a:ext cx="378000" cy="345960"/>
            </a:xfrm>
            <a:prstGeom prst="ellipse">
              <a:avLst/>
            </a:prstGeom>
            <a:solidFill>
              <a:srgbClr val="ffffff"/>
            </a:solidFill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77800" y="4282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73080" y="4729320"/>
              <a:ext cx="89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ou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3179520" y="3402000"/>
              <a:ext cx="439560" cy="633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3838680" y="2963520"/>
              <a:ext cx="1440" cy="40788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3.8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Routing tables for the network in Figure 3.7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16360" y="485928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714840" y="485928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15000" y="485928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13480" y="485928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16360" y="610380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4840" y="610380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15000" y="610380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513480" y="610380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085840" y="4249800"/>
            <a:ext cx="5226120" cy="1873080"/>
            <a:chOff x="2085840" y="4249800"/>
            <a:chExt cx="5226120" cy="1873080"/>
          </a:xfrm>
        </p:grpSpPr>
        <p:sp>
          <p:nvSpPr>
            <p:cNvPr id="313" name=""/>
            <p:cNvSpPr/>
            <p:nvPr/>
          </p:nvSpPr>
          <p:spPr>
            <a:xfrm>
              <a:off x="2568960" y="4280040"/>
              <a:ext cx="1526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outings from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67240" y="4280040"/>
              <a:ext cx="1501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outings from 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14520" y="4603680"/>
              <a:ext cx="24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25520" y="4603680"/>
              <a:ext cx="4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25440" y="460368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3520" y="4603680"/>
              <a:ext cx="24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24160" y="4603680"/>
              <a:ext cx="4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24440" y="460368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09560" y="48704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04880" y="5114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15680" y="53593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09560" y="56037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11000" y="58482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34680" y="4870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34680" y="5114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34680" y="535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68720" y="5603760"/>
              <a:ext cx="44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34680" y="58482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34960" y="4870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34960" y="5114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34960" y="535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134960" y="560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34960" y="58482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08560" y="48704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03520" y="5114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14680" y="53593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08560" y="56037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309640" y="58482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133680" y="4870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33680" y="5114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33680" y="535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33680" y="560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67720" y="5848200"/>
              <a:ext cx="44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33600" y="4870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33600" y="5114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33600" y="535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33600" y="560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33600" y="58482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04920" y="4249800"/>
              <a:ext cx="240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910040" y="4253040"/>
              <a:ext cx="240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95560" y="4859280"/>
              <a:ext cx="240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900680" y="4862520"/>
              <a:ext cx="240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85840" y="6107040"/>
              <a:ext cx="240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90960" y="6110280"/>
              <a:ext cx="240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92120" y="1719360"/>
            <a:ext cx="8259840" cy="1951560"/>
            <a:chOff x="492120" y="1719360"/>
            <a:chExt cx="8259840" cy="1951560"/>
          </a:xfrm>
        </p:grpSpPr>
        <p:sp>
          <p:nvSpPr>
            <p:cNvPr id="358" name=""/>
            <p:cNvSpPr/>
            <p:nvPr/>
          </p:nvSpPr>
          <p:spPr>
            <a:xfrm>
              <a:off x="808200" y="1730160"/>
              <a:ext cx="1581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outings from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36800" y="1730160"/>
              <a:ext cx="1581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outings from 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64320" y="1730160"/>
              <a:ext cx="1593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outings from 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6200" y="2077920"/>
              <a:ext cx="25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88880" y="2077920"/>
              <a:ext cx="429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Lin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25520" y="2077920"/>
              <a:ext cx="44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73360" y="2077920"/>
              <a:ext cx="25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7840" y="2077920"/>
              <a:ext cx="429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Lin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54480" y="2077920"/>
              <a:ext cx="44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02320" y="2077920"/>
              <a:ext cx="25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45360" y="2077920"/>
              <a:ext cx="429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Lin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082000" y="2077920"/>
              <a:ext cx="44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2280" y="23587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1920" y="26143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1920" y="28699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280" y="31255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1920" y="33811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88160" y="2358720"/>
              <a:ext cx="468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552680" y="26143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52680" y="2869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52680" y="31255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52680" y="33811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89320" y="23587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89320" y="26143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89320" y="2869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89320" y="31255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89320" y="33811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19440" y="23587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19440" y="26143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19440" y="28699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19440" y="31255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19080" y="33811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79840" y="23587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17120" y="2614320"/>
              <a:ext cx="468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79840" y="2869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79840" y="31255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79840" y="33811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16480" y="23587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16480" y="26143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16480" y="2869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16480" y="31255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6480" y="33811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48400" y="23587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48040" y="26143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548040" y="28699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48400" y="31255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48040" y="33811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07360" y="23587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07360" y="26143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244280" y="2869920"/>
              <a:ext cx="468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407360" y="31255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407360" y="33811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244000" y="23587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244000" y="26143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4000" y="28699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244000" y="31255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244000" y="33811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492120" y="1738080"/>
              <a:ext cx="2401920" cy="1918800"/>
              <a:chOff x="492120" y="1738080"/>
              <a:chExt cx="2401920" cy="1918800"/>
            </a:xfrm>
          </p:grpSpPr>
          <p:sp>
            <p:nvSpPr>
              <p:cNvPr id="416" name=""/>
              <p:cNvSpPr/>
              <p:nvPr/>
            </p:nvSpPr>
            <p:spPr>
              <a:xfrm>
                <a:off x="492120" y="173808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92120" y="234720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92120" y="365688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3421080" y="1728720"/>
              <a:ext cx="2401920" cy="1918800"/>
              <a:chOff x="3421080" y="1728720"/>
              <a:chExt cx="2401920" cy="1918800"/>
            </a:xfrm>
          </p:grpSpPr>
          <p:sp>
            <p:nvSpPr>
              <p:cNvPr id="420" name=""/>
              <p:cNvSpPr/>
              <p:nvPr/>
            </p:nvSpPr>
            <p:spPr>
              <a:xfrm>
                <a:off x="3421080" y="172872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421080" y="233784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421080" y="364752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350040" y="1719360"/>
              <a:ext cx="2401920" cy="1918800"/>
              <a:chOff x="6350040" y="1719360"/>
              <a:chExt cx="2401920" cy="1918800"/>
            </a:xfrm>
          </p:grpSpPr>
          <p:sp>
            <p:nvSpPr>
              <p:cNvPr id="424" name=""/>
              <p:cNvSpPr/>
              <p:nvPr/>
            </p:nvSpPr>
            <p:spPr>
              <a:xfrm>
                <a:off x="6350040" y="171936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350040" y="232848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50040" y="3638160"/>
                <a:ext cx="240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2T23:34:53Z</dcterms:created>
  <dc:creator>George Coulouris</dc:creator>
  <dc:description/>
  <dc:language>en-US</dc:language>
  <cp:lastModifiedBy>Jean Dollimore</cp:lastModifiedBy>
  <dcterms:modified xsi:type="dcterms:W3CDTF">2001-08-24T11:55:57Z</dcterms:modified>
  <cp:revision>38</cp:revision>
  <dc:subject/>
  <dc:title> Slides for Chapter 3:  Networking and Internetworking</dc:title>
</cp:coreProperties>
</file>